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024440" y="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79400" y="769680"/>
            <a:ext cx="5538960" cy="3833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600" spc="-1" strike="noStrike">
                <a:solidFill>
                  <a:srgbClr val="b72c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03800" cy="459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5"/>
          </p:nvPr>
        </p:nvSpPr>
        <p:spPr>
          <a:xfrm>
            <a:off x="-360" y="972180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1520" cy="509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96E622AB-7B04-4887-ADBA-36C6C42C259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26EC8C06-42B4-43F6-82A2-68DE14239DE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4A751E0A-018D-40CE-9171-A207933DA7E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BD3B811D-1BB4-4452-A9D3-D851E1BC10B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D03AE07E-2916-427A-8B43-02CDD3141FE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5E84115F-C069-4B9D-8C94-83EADD8CE7A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4D990A1E-A4B6-4DA7-AE0A-47562EEE134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9395A225-15DB-4A03-9674-D5C75D0D9E6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35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25BCBF4C-2179-4285-AD16-80E3A33D8E6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9AAF88EB-8A01-46EC-8A4D-527E4CBE7AE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40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FE9ED5A7-C390-4306-BE0F-73A50EBD523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781B1205-1A88-4D43-80D8-756CB33C292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45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84666DF1-C144-43D2-8688-FA79032AF6A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E50BFB65-7390-4D88-A494-DED16E6879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0" y="7779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709560" y="4861080"/>
            <a:ext cx="56800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BE8F7FC1-5BE0-4CF7-BD6B-A8273F2DC7D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012AB44C-FABC-4162-B1E7-3907752D73B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F92A0CAE-8994-4B64-8952-16BD3E27E9F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14B42C36-B102-44BD-B798-51C3C1F5B2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0" y="7779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709560" y="4861080"/>
            <a:ext cx="56800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0A235DB2-F445-4559-9D8D-48356C49B4B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C9EFAC2E-BE65-445F-82E8-43751BBF450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44AA669F-4A44-478B-9A81-CEB56CB2D92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AAFC6293-C47A-4C38-BFE6-697CE0CD23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0" y="7779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96" name=""/>
          <p:cNvSpPr/>
          <p:nvPr/>
        </p:nvSpPr>
        <p:spPr>
          <a:xfrm>
            <a:off x="709560" y="4861080"/>
            <a:ext cx="56800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D46A1DB2-40D0-4090-90C9-8FD811A5B21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EF4B3F90-7B36-4A9B-9125-77517BAE86A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0" y="7779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709560" y="4861080"/>
            <a:ext cx="56800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C9B647BF-D499-42E9-A7BE-8FF5810F4CA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81FE8FC8-3C7B-4390-9E78-997DF644972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06" name=""/>
          <p:cNvSpPr/>
          <p:nvPr/>
        </p:nvSpPr>
        <p:spPr>
          <a:xfrm>
            <a:off x="946080" y="4862520"/>
            <a:ext cx="5207040" cy="4602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3D3F2649-7057-4AC5-8DE7-A01991B93DE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38DC2108-1DFE-43B9-B459-597F5252839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R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4024440" y="9721800"/>
            <a:ext cx="3073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2602FEF5-D686-428D-9849-2272C8C48FE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B9D7-7B8E-44D1-9C7C-34DFB51E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60B7-DDC0-411D-9D51-26965614D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2256-00C0-41CB-9B42-AC79884A1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632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544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632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544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C053-5755-4F1D-A9B7-9668E3226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3840" y="374760"/>
            <a:ext cx="841356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4696-BC6A-4703-B2C8-DD3FBC836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632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3544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632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3544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62DB-A888-4149-901A-9466D51459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9330-60FB-43BD-97DA-658FCAFE2F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D74C-637D-4769-A7AC-D4046F40DC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A007-CBFA-4065-BD19-403D48E35D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C2F9-DAD7-4F50-BA9F-0258756C6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652A-96F2-4F41-BD05-BC34D0A095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53840" y="374760"/>
            <a:ext cx="841356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7FCC-C9C3-48A2-AB30-CE4A69E9CE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C438-0129-45C9-B1CC-FDAE4812A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3E52-7E25-450B-9ADE-A2A031EC18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09DC-64CF-45DF-B1EF-AB7516E443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3BAA-B856-46EC-A180-C17F2C68E4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F85F-C010-48D4-9BC5-2850B2B047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632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3544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632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3544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68FE-A6B2-404D-9110-A7676EDC43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5B0-FF5B-44DE-B2D9-15FA88589D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F57-0352-4133-AC36-01D5F11AD7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339-0F7F-43DF-8A4E-408A7FFE6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96D4-6F08-4367-828F-72720AE974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A9E-6F8A-4809-BB5B-536AC00638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DC2-D1CF-4F73-8BDE-14832E6659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3840" y="374760"/>
            <a:ext cx="841356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59F-A413-4373-A68C-ADE92D5828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B45-C5FC-41EA-A215-2A32FCB825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E68-CECB-4036-AD1A-38AE016654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F03-FEB4-4014-B799-D35836043D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8A8-8C59-4E5A-99E2-C7A0FD401F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B5B-0220-470B-B6E0-B9C906808A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9632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35440" y="1523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9632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35440" y="3989520"/>
            <a:ext cx="2894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C6D-FE1B-4AC6-8B4F-ADBCE7115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2B18-38BE-4F7D-92F7-93B5F5055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3840" y="374760"/>
            <a:ext cx="841356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666C-7500-405A-A431-C8EBF4E8B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B7A0-88B5-48D2-8E88-3C2BF710C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989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36C4-361C-4B12-9A4A-1D04A5D9A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523520"/>
            <a:ext cx="43862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89520"/>
            <a:ext cx="89884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238B-D209-4E35-A252-AC77D2028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2063880" cy="48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420040" y="6576840"/>
            <a:ext cx="1049400" cy="2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5695920" y="6492600"/>
            <a:ext cx="2308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53F46F6F-EA8D-499A-B9D6-F796D4CD8BC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28760" y="64929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72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69240" y="5589720"/>
            <a:ext cx="2792160" cy="121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8520" y="5761080"/>
            <a:ext cx="1754280" cy="46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200" y="981000"/>
            <a:ext cx="84168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509840" y="3495600"/>
            <a:ext cx="6906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92480" y="3213000"/>
            <a:ext cx="3530520" cy="9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72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206388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420040" y="6576840"/>
            <a:ext cx="1049400" cy="281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72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5695920" y="6492600"/>
            <a:ext cx="2308320" cy="361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  <a:defRPr b="0" lang="fr-CH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529455F4-0FF7-4C68-82BC-6BFDA8B92FF8}" type="slidenum">
              <a:rPr b="0" lang="fr-CH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28760" y="64929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6246720"/>
            <a:ext cx="2305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2063880" cy="484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420040" y="6576840"/>
            <a:ext cx="1049400" cy="281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3840" y="374760"/>
            <a:ext cx="8413560" cy="96192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72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72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988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5695920" y="6492600"/>
            <a:ext cx="2308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  <a:defRPr b="0" lang="fr-FR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fld id="{5FF8A560-39E1-423B-B7A7-72303B2D1632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4"/>
          </p:nvPr>
        </p:nvSpPr>
        <p:spPr>
          <a:xfrm>
            <a:off x="2228400" y="6492600"/>
            <a:ext cx="31338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  <a:defRPr b="0" lang="fr-FR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78236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Pr. Fabien V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3320" y="1581120"/>
            <a:ext cx="84200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000" spc="-1" strike="noStrike">
                <a:solidFill>
                  <a:srgbClr val="b72c00"/>
                </a:solidFill>
                <a:latin typeface="Arial"/>
              </a:rPr>
              <a:t>Interruptions et Exceptions</a:t>
            </a:r>
            <a:br>
              <a:rPr sz="4000"/>
            </a:b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Complément au cours du 1</a:t>
            </a:r>
            <a:r>
              <a:rPr b="0" lang="fr-FR" sz="2800" spc="-1" strike="noStrike" baseline="30000">
                <a:solidFill>
                  <a:srgbClr val="b72c00"/>
                </a:solidFill>
                <a:latin typeface="Arial"/>
              </a:rPr>
              <a:t>er</a:t>
            </a: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 semest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15880" y="3395520"/>
            <a:ext cx="8979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Fabien Vann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lsn, hep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D4549973-3BCE-4B90-B04F-96F035001B8F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7288200" y="2787480"/>
            <a:ext cx="1442880" cy="12211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970520" y="1601640"/>
            <a:ext cx="1530360" cy="3986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4957920" y="4784760"/>
            <a:ext cx="1595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Contrôle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d’interruptions (VIC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5078520" y="3147840"/>
            <a:ext cx="1349280" cy="33516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dr. ISR_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device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5078520" y="3483000"/>
            <a:ext cx="1349280" cy="3348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5078520" y="3817800"/>
            <a:ext cx="1349280" cy="3304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5078160" y="2260440"/>
            <a:ext cx="1296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Table vecteurs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6638760" y="3081240"/>
            <a:ext cx="5065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010360" y="1375920"/>
            <a:ext cx="27000" cy="14144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863800" y="1373040"/>
            <a:ext cx="5195880" cy="32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3552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119560" y="1809720"/>
            <a:ext cx="1271880" cy="257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sque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601640"/>
            <a:ext cx="1625760" cy="2833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500" spc="-1" strike="noStrike">
                <a:solidFill>
                  <a:srgbClr val="000000"/>
                </a:solidFill>
                <a:latin typeface="Verdana"/>
              </a:rPr>
              <a:t>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31920" y="211464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Masque interrup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078520" y="2800440"/>
            <a:ext cx="1349280" cy="3366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5419440" y="20970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451480" y="367992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131920" y="2741760"/>
            <a:ext cx="1476360" cy="42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Clear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nt. (écri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131920" y="3359160"/>
            <a:ext cx="1476360" cy="4287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ff0000"/>
                </a:solidFill>
                <a:latin typeface="Arial"/>
              </a:rPr>
              <a:t>Status int. = ‘</a:t>
            </a:r>
            <a:r>
              <a:rPr b="0" i="1" lang="fr-CH" sz="14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fr-CH" sz="1400" spc="-1" strike="noStrike">
                <a:solidFill>
                  <a:srgbClr val="ff0000"/>
                </a:solidFill>
                <a:latin typeface="Arial"/>
              </a:rPr>
              <a:t>’ (lec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20" name=""/>
          <p:cNvCxnSpPr>
            <a:stCxn id="319" idx="3"/>
            <a:endCxn id="302" idx="1"/>
          </p:cNvCxnSpPr>
          <p:nvPr/>
        </p:nvCxnSpPr>
        <p:spPr>
          <a:xfrm>
            <a:off x="3608280" y="3573360"/>
            <a:ext cx="1362960" cy="23040"/>
          </a:xfrm>
          <a:prstGeom prst="bentConnector3">
            <a:avLst>
              <a:gd name="adj1" fmla="val 49960"/>
            </a:avLst>
          </a:prstGeom>
          <a:ln cap="sq" w="28440">
            <a:solidFill>
              <a:srgbClr val="c00000"/>
            </a:solidFill>
            <a:round/>
            <a:tailEnd len="med" type="triangle" w="med"/>
          </a:ln>
        </p:spPr>
      </p:cxnSp>
      <p:cxnSp>
        <p:nvCxnSpPr>
          <p:cNvPr id="321" name=""/>
          <p:cNvCxnSpPr/>
          <p:nvPr/>
        </p:nvCxnSpPr>
        <p:spPr>
          <a:xfrm flipV="1">
            <a:off x="3798720" y="4644360"/>
            <a:ext cx="1162440" cy="61668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22" name=""/>
          <p:cNvCxnSpPr/>
          <p:nvPr/>
        </p:nvCxnSpPr>
        <p:spPr>
          <a:xfrm>
            <a:off x="1269720" y="3018960"/>
            <a:ext cx="788040" cy="3960"/>
          </a:xfrm>
          <a:prstGeom prst="straightConnector1">
            <a:avLst/>
          </a:prstGeom>
          <a:ln cap="sq"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5715000" y="5587560"/>
            <a:ext cx="2160" cy="7437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24" name=""/>
          <p:cNvCxnSpPr/>
          <p:nvPr/>
        </p:nvCxnSpPr>
        <p:spPr>
          <a:xfrm>
            <a:off x="6500520" y="3397320"/>
            <a:ext cx="788040" cy="2160"/>
          </a:xfrm>
          <a:prstGeom prst="straightConnector1">
            <a:avLst/>
          </a:prstGeom>
          <a:ln cap="sq"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25" name=""/>
          <p:cNvCxnSpPr/>
          <p:nvPr/>
        </p:nvCxnSpPr>
        <p:spPr>
          <a:xfrm>
            <a:off x="3990960" y="1601280"/>
            <a:ext cx="969120" cy="3513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754200" y="374760"/>
            <a:ext cx="8416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L’interruption parvient au processeur qui saute à l’adresse de la routine de </a:t>
            </a:r>
            <a:r>
              <a:rPr b="0" i="1" lang="fr-FR" sz="2800" spc="-1" strike="noStrike">
                <a:solidFill>
                  <a:srgbClr val="b72c00"/>
                </a:solidFill>
                <a:latin typeface="Arial"/>
              </a:rPr>
              <a:t>device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363600" y="2411280"/>
            <a:ext cx="12520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Évèn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xtérieu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010360" y="3982680"/>
            <a:ext cx="1800" cy="469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7224840" y="4435560"/>
            <a:ext cx="1625400" cy="1873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émoire 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8099280" y="3540240"/>
            <a:ext cx="525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cap="sq"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600" spc="-1" strike="noStrike">
                <a:solidFill>
                  <a:srgbClr val="224b5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31" name=""/>
          <p:cNvCxnSpPr>
            <a:stCxn id="330" idx="3"/>
            <a:endCxn id="332" idx="3"/>
          </p:cNvCxnSpPr>
          <p:nvPr/>
        </p:nvCxnSpPr>
        <p:spPr>
          <a:xfrm>
            <a:off x="8624880" y="3731760"/>
            <a:ext cx="226080" cy="2220120"/>
          </a:xfrm>
          <a:prstGeom prst="curvedConnector5">
            <a:avLst>
              <a:gd name="adj1" fmla="val 49920"/>
              <a:gd name="adj2" fmla="val 50000"/>
              <a:gd name="adj3" fmla="val 49920"/>
            </a:avLst>
          </a:prstGeom>
          <a:ln cap="sq" w="31680">
            <a:solidFill>
              <a:srgbClr val="c00000"/>
            </a:solidFill>
            <a:custDash>
              <a:ds d="100000" sp="100000"/>
            </a:custDash>
            <a:miter/>
            <a:tailEnd len="med" type="stealth" w="lg"/>
          </a:ln>
        </p:spPr>
      </p:cxnSp>
      <p:sp>
        <p:nvSpPr>
          <p:cNvPr id="333" name=""/>
          <p:cNvSpPr/>
          <p:nvPr/>
        </p:nvSpPr>
        <p:spPr>
          <a:xfrm>
            <a:off x="7224840" y="5029200"/>
            <a:ext cx="1625400" cy="4651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24840" y="5705640"/>
            <a:ext cx="1625400" cy="49212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Routine int. ISR_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86380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7C999B8D-937A-41CD-85A8-AE9F06A9144A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288200" y="2787480"/>
            <a:ext cx="1442880" cy="12211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4970520" y="1601640"/>
            <a:ext cx="1530360" cy="3986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4957920" y="4784760"/>
            <a:ext cx="1595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Contrôle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d’interruptions (VIC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078520" y="3147840"/>
            <a:ext cx="1272960" cy="33516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dr. ISR_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device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078520" y="3483000"/>
            <a:ext cx="1272960" cy="3348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5078520" y="3817800"/>
            <a:ext cx="1272960" cy="3304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5078160" y="2260440"/>
            <a:ext cx="1296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Table vecteurs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6638760" y="3081240"/>
            <a:ext cx="5065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010360" y="1375920"/>
            <a:ext cx="27000" cy="14144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2870280" y="1376280"/>
            <a:ext cx="518940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3552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5119560" y="1809720"/>
            <a:ext cx="1271880" cy="257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Masque </a:t>
            </a:r>
            <a:r>
              <a:rPr b="1" lang="fr-CH" sz="13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601640"/>
            <a:ext cx="1625760" cy="2833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500" spc="-1" strike="noStrike">
                <a:solidFill>
                  <a:srgbClr val="000000"/>
                </a:solidFill>
                <a:latin typeface="Verdana"/>
              </a:rPr>
              <a:t>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2131920" y="211464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Masque interrup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5078520" y="2800440"/>
            <a:ext cx="1272960" cy="3366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5419440" y="20970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451480" y="367992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2131920" y="2741760"/>
            <a:ext cx="1476360" cy="42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i="1" lang="fr-CH" sz="1400" spc="-1" strike="noStrike">
                <a:solidFill>
                  <a:srgbClr val="c00000"/>
                </a:solidFill>
                <a:latin typeface="Arial"/>
              </a:rPr>
              <a:t>Clear </a:t>
            </a:r>
            <a:r>
              <a:rPr b="1" lang="fr-CH" sz="1400" spc="-1" strike="noStrike">
                <a:solidFill>
                  <a:srgbClr val="c00000"/>
                </a:solidFill>
                <a:latin typeface="Arial"/>
              </a:rPr>
              <a:t>int. (écri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2131920" y="3359160"/>
            <a:ext cx="1476360" cy="4287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c00000"/>
                </a:solidFill>
                <a:latin typeface="Arial"/>
              </a:rPr>
              <a:t>Status int. = ‘</a:t>
            </a:r>
            <a:r>
              <a:rPr b="0" i="1" lang="fr-CH" sz="1400" spc="-1" strike="noStrike">
                <a:solidFill>
                  <a:srgbClr val="c00000"/>
                </a:solidFill>
                <a:latin typeface="Arial"/>
              </a:rPr>
              <a:t>off</a:t>
            </a:r>
            <a:r>
              <a:rPr b="0" lang="fr-CH" sz="1400" spc="-1" strike="noStrike">
                <a:solidFill>
                  <a:srgbClr val="c00000"/>
                </a:solidFill>
                <a:latin typeface="Arial"/>
              </a:rPr>
              <a:t>’  (lec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6" name=""/>
          <p:cNvCxnSpPr>
            <a:stCxn id="355" idx="3"/>
            <a:endCxn id="338" idx="1"/>
          </p:cNvCxnSpPr>
          <p:nvPr/>
        </p:nvCxnSpPr>
        <p:spPr>
          <a:xfrm>
            <a:off x="3608280" y="3573360"/>
            <a:ext cx="1362960" cy="23040"/>
          </a:xfrm>
          <a:prstGeom prst="bentConnector3">
            <a:avLst>
              <a:gd name="adj1" fmla="val 49960"/>
            </a:avLst>
          </a:prstGeom>
          <a:ln cap="sq"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V="1">
            <a:off x="3798720" y="4644360"/>
            <a:ext cx="1162440" cy="61668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58" name=""/>
          <p:cNvCxnSpPr/>
          <p:nvPr/>
        </p:nvCxnSpPr>
        <p:spPr>
          <a:xfrm>
            <a:off x="1269720" y="3018960"/>
            <a:ext cx="78804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5715000" y="5587560"/>
            <a:ext cx="2160" cy="7437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60" name=""/>
          <p:cNvCxnSpPr/>
          <p:nvPr/>
        </p:nvCxnSpPr>
        <p:spPr>
          <a:xfrm>
            <a:off x="6500520" y="3397320"/>
            <a:ext cx="78804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>
            <a:off x="3990960" y="1662120"/>
            <a:ext cx="969120" cy="28800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62" name=""/>
          <p:cNvSpPr/>
          <p:nvPr/>
        </p:nvSpPr>
        <p:spPr>
          <a:xfrm>
            <a:off x="797040" y="741240"/>
            <a:ext cx="841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A la fin de son exécution, la routine d’interruption quittance </a:t>
            </a:r>
            <a:r>
              <a:rPr b="0" i="1" lang="fr-FR" sz="2800" spc="-1" strike="noStrike">
                <a:solidFill>
                  <a:srgbClr val="b72c00"/>
                </a:solidFill>
                <a:latin typeface="Arial"/>
              </a:rPr>
              <a:t>device1</a:t>
            </a: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 pour indiquer que l’évènement est traité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10360" y="3982680"/>
            <a:ext cx="1800" cy="469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7224840" y="4435560"/>
            <a:ext cx="1625400" cy="1873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émoire 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8099280" y="3540240"/>
            <a:ext cx="525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cap="sq"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600" spc="-1" strike="noStrike">
                <a:solidFill>
                  <a:srgbClr val="224b5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6" name=""/>
          <p:cNvCxnSpPr>
            <a:stCxn id="365" idx="3"/>
            <a:endCxn id="367" idx="3"/>
          </p:cNvCxnSpPr>
          <p:nvPr/>
        </p:nvCxnSpPr>
        <p:spPr>
          <a:xfrm>
            <a:off x="8624880" y="3731760"/>
            <a:ext cx="226080" cy="2220120"/>
          </a:xfrm>
          <a:prstGeom prst="curvedConnector5">
            <a:avLst>
              <a:gd name="adj1" fmla="val 49920"/>
              <a:gd name="adj2" fmla="val 50000"/>
              <a:gd name="adj3" fmla="val 49920"/>
            </a:avLst>
          </a:prstGeom>
          <a:ln cap="sq" w="31680">
            <a:solidFill>
              <a:srgbClr val="c00000"/>
            </a:solidFill>
            <a:custDash>
              <a:ds d="100000" sp="100000"/>
            </a:custDash>
            <a:miter/>
            <a:tailEnd len="med" type="stealth" w="lg"/>
          </a:ln>
        </p:spPr>
      </p:cxnSp>
      <p:sp>
        <p:nvSpPr>
          <p:cNvPr id="368" name=""/>
          <p:cNvSpPr/>
          <p:nvPr/>
        </p:nvSpPr>
        <p:spPr>
          <a:xfrm>
            <a:off x="7224840" y="5029200"/>
            <a:ext cx="1625400" cy="4651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7224840" y="5705640"/>
            <a:ext cx="1625400" cy="49212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Routine int. ISR_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6380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13792259-38FC-4733-83E0-BD63EE1CE433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7288200" y="2787480"/>
            <a:ext cx="1442880" cy="12211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4970520" y="1601640"/>
            <a:ext cx="1530360" cy="3986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4957920" y="4784760"/>
            <a:ext cx="1595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Contrôle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d’interruptions (VIC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5078520" y="3147840"/>
            <a:ext cx="1349280" cy="33516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dr. ISR_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device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5078520" y="3483000"/>
            <a:ext cx="1349280" cy="3348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5078520" y="3817800"/>
            <a:ext cx="1349280" cy="3304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5078160" y="2260440"/>
            <a:ext cx="1296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Table vecteurs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6638760" y="3081240"/>
            <a:ext cx="5065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8010360" y="1375920"/>
            <a:ext cx="27000" cy="14144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2870280" y="1376280"/>
            <a:ext cx="518940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73552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5119560" y="1809720"/>
            <a:ext cx="1271880" cy="257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sque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1601640"/>
            <a:ext cx="1625760" cy="2833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500" spc="-1" strike="noStrike">
                <a:solidFill>
                  <a:srgbClr val="000000"/>
                </a:solidFill>
                <a:latin typeface="Verdana"/>
              </a:rPr>
              <a:t>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2131920" y="211464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Masque interrup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5078520" y="2800440"/>
            <a:ext cx="1349280" cy="3366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5419440" y="20970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5451480" y="367992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131920" y="2741760"/>
            <a:ext cx="1476360" cy="42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Clear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nt. (écri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2131920" y="3359160"/>
            <a:ext cx="1476360" cy="4287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tatus int. (lec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91" name=""/>
          <p:cNvCxnSpPr>
            <a:stCxn id="390" idx="3"/>
            <a:endCxn id="373" idx="1"/>
          </p:cNvCxnSpPr>
          <p:nvPr/>
        </p:nvCxnSpPr>
        <p:spPr>
          <a:xfrm>
            <a:off x="3608280" y="3573360"/>
            <a:ext cx="1362960" cy="23040"/>
          </a:xfrm>
          <a:prstGeom prst="bentConnector3">
            <a:avLst>
              <a:gd name="adj1" fmla="val 49960"/>
            </a:avLst>
          </a:prstGeom>
          <a:ln cap="sq"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92" name=""/>
          <p:cNvCxnSpPr/>
          <p:nvPr/>
        </p:nvCxnSpPr>
        <p:spPr>
          <a:xfrm flipV="1">
            <a:off x="3767040" y="4644360"/>
            <a:ext cx="1192680" cy="61668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3" name=""/>
          <p:cNvCxnSpPr/>
          <p:nvPr/>
        </p:nvCxnSpPr>
        <p:spPr>
          <a:xfrm>
            <a:off x="1269720" y="3018960"/>
            <a:ext cx="78804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/>
          <p:nvPr/>
        </p:nvCxnSpPr>
        <p:spPr>
          <a:xfrm flipV="1">
            <a:off x="5715000" y="5587560"/>
            <a:ext cx="2160" cy="7437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5" name=""/>
          <p:cNvCxnSpPr/>
          <p:nvPr/>
        </p:nvCxnSpPr>
        <p:spPr>
          <a:xfrm>
            <a:off x="6500520" y="3397320"/>
            <a:ext cx="78804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/>
          <p:nvPr/>
        </p:nvCxnSpPr>
        <p:spPr>
          <a:xfrm>
            <a:off x="3990960" y="1662120"/>
            <a:ext cx="969120" cy="28800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97" name=""/>
          <p:cNvSpPr/>
          <p:nvPr/>
        </p:nvSpPr>
        <p:spPr>
          <a:xfrm>
            <a:off x="754200" y="374760"/>
            <a:ext cx="8416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2800" spc="-1" strike="noStrike">
                <a:solidFill>
                  <a:srgbClr val="b72c00"/>
                </a:solidFill>
                <a:latin typeface="Arial"/>
              </a:rPr>
              <a:t>Puis retourne, à l’adresse à laquelle l’interruption a eu li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8010360" y="3982680"/>
            <a:ext cx="1800" cy="469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7224840" y="4435560"/>
            <a:ext cx="1625400" cy="1873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émoire 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8099280" y="3540240"/>
            <a:ext cx="525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cap="sq"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600" spc="-1" strike="noStrike">
                <a:solidFill>
                  <a:srgbClr val="224b5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01" name=""/>
          <p:cNvCxnSpPr>
            <a:stCxn id="400" idx="3"/>
            <a:endCxn id="402" idx="3"/>
          </p:cNvCxnSpPr>
          <p:nvPr/>
        </p:nvCxnSpPr>
        <p:spPr>
          <a:xfrm>
            <a:off x="8624880" y="3731760"/>
            <a:ext cx="226080" cy="1531080"/>
          </a:xfrm>
          <a:prstGeom prst="curvedConnector5">
            <a:avLst>
              <a:gd name="adj1" fmla="val 49920"/>
              <a:gd name="adj2" fmla="val 50000"/>
              <a:gd name="adj3" fmla="val 49920"/>
            </a:avLst>
          </a:prstGeom>
          <a:ln cap="sq" w="31680">
            <a:solidFill>
              <a:srgbClr val="c00000"/>
            </a:solidFill>
            <a:custDash>
              <a:ds d="100000" sp="100000"/>
            </a:custDash>
            <a:miter/>
            <a:tailEnd len="med" type="stealth" w="lg"/>
          </a:ln>
        </p:spPr>
      </p:cxnSp>
      <p:sp>
        <p:nvSpPr>
          <p:cNvPr id="402" name=""/>
          <p:cNvSpPr/>
          <p:nvPr/>
        </p:nvSpPr>
        <p:spPr>
          <a:xfrm>
            <a:off x="7224840" y="5029200"/>
            <a:ext cx="1625400" cy="4651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7224840" y="5705640"/>
            <a:ext cx="1625400" cy="49212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Routine int. ISR_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863800" y="1375920"/>
            <a:ext cx="1800" cy="2286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754200" y="374760"/>
            <a:ext cx="8416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200" spc="-1" strike="noStrike">
                <a:solidFill>
                  <a:srgbClr val="b72c00"/>
                </a:solidFill>
                <a:latin typeface="Arial"/>
              </a:rPr>
              <a:t>L’initialisation d’une interruption (avec V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520560" y="1063800"/>
            <a:ext cx="86677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ialiser une interruption consiste à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Initialis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vecteur d’interrup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du VIC avec l’adresse de la routine d’interru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Facultatif (et dépendant du périphérique): écrire quelques registres du périphérique considéré pour configurer le type d’interruption désir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Configure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tous les masques d’interrup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(source + VIC) entre la source de l’interruption et le process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54200" y="374760"/>
            <a:ext cx="8416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200" spc="-1" strike="noStrike">
                <a:solidFill>
                  <a:srgbClr val="b72c00"/>
                </a:solidFill>
                <a:latin typeface="Arial"/>
              </a:rPr>
              <a:t>Prototype d’une routine d’interru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520560" y="1063800"/>
            <a:ext cx="86677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routine d’interruption ou ISR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terrupt Service Rout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peut être appelée n’importe quand au milieu de l’exécution d’un programme, c’est pourquoi elle n’accepte aucun paramètre et n’en retourne aucu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routine d’interruption ne doit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jamais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être appelée comme une fonction depuis un programm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otyp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MS PGothic"/>
              </a:rPr>
              <a:t>voi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mon_ISR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MS PGothic"/>
              </a:rPr>
              <a:t>voi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eul moyen de communiquer une information entre l’ISR et un programme principal est d’utiliser des variables glob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54200" y="374760"/>
            <a:ext cx="8416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600" spc="-1" strike="noStrike">
                <a:solidFill>
                  <a:srgbClr val="b72c00"/>
                </a:solidFill>
                <a:latin typeface="Arial"/>
              </a:rPr>
              <a:t>La quittance d’interrup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520560" y="1063800"/>
            <a:ext cx="86677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ttancer l’interruption traitée est fondamental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a permet de mettre la ligne d’interruption en état « off 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a évite que la routine soit réappelée indéfiniment sans plus jamais laisser la main au programme 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quittancer une interruption il faut écrire le registre «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lear interrup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» du périphérique qui l’a provoqué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quittance doit être effectué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routine d’interruption pour être sûr que la ligne IRQ est relâchée à son ret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962840" y="4627440"/>
            <a:ext cx="49860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12" name=""/>
          <p:cNvCxnSpPr/>
          <p:nvPr/>
        </p:nvCxnSpPr>
        <p:spPr>
          <a:xfrm>
            <a:off x="1614600" y="3341160"/>
            <a:ext cx="1870560" cy="745560"/>
          </a:xfrm>
          <a:prstGeom prst="bentConnector3">
            <a:avLst>
              <a:gd name="adj1" fmla="val 80808"/>
            </a:avLst>
          </a:prstGeom>
          <a:ln cap="sq" w="223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13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2F39A7E0-E2EB-4798-9A47-53B50C893ADF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5665680" y="4611600"/>
            <a:ext cx="995400" cy="3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618080" y="3951360"/>
            <a:ext cx="1047600" cy="13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730840" y="4297320"/>
            <a:ext cx="7380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INT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2035080" y="3222720"/>
            <a:ext cx="298440" cy="142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2035080" y="4848120"/>
            <a:ext cx="298440" cy="142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114200" y="3792600"/>
            <a:ext cx="8053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GPIO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5400720"/>
            <a:ext cx="78696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PIO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21" name=""/>
          <p:cNvCxnSpPr>
            <a:endCxn id="422" idx="1"/>
          </p:cNvCxnSpPr>
          <p:nvPr/>
        </p:nvCxnSpPr>
        <p:spPr>
          <a:xfrm>
            <a:off x="2333520" y="3479760"/>
            <a:ext cx="1092960" cy="776880"/>
          </a:xfrm>
          <a:prstGeom prst="bentConnector3">
            <a:avLst>
              <a:gd name="adj1" fmla="val 39406"/>
            </a:avLst>
          </a:prstGeom>
          <a:ln cap="sq"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3" name=""/>
          <p:cNvCxnSpPr/>
          <p:nvPr/>
        </p:nvCxnSpPr>
        <p:spPr>
          <a:xfrm>
            <a:off x="2325240" y="4447800"/>
            <a:ext cx="1135800" cy="540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4" name=""/>
          <p:cNvCxnSpPr>
            <a:endCxn id="425" idx="1"/>
          </p:cNvCxnSpPr>
          <p:nvPr/>
        </p:nvCxnSpPr>
        <p:spPr>
          <a:xfrm>
            <a:off x="2325240" y="4927680"/>
            <a:ext cx="1135800" cy="100800"/>
          </a:xfrm>
          <a:prstGeom prst="bentConnector3">
            <a:avLst>
              <a:gd name="adj1" fmla="val 39790"/>
            </a:avLst>
          </a:prstGeom>
          <a:ln cap="sq"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6" name=""/>
          <p:cNvCxnSpPr/>
          <p:nvPr/>
        </p:nvCxnSpPr>
        <p:spPr>
          <a:xfrm flipV="1">
            <a:off x="2333160" y="5269680"/>
            <a:ext cx="1151640" cy="82620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27" name=""/>
          <p:cNvSpPr/>
          <p:nvPr/>
        </p:nvSpPr>
        <p:spPr>
          <a:xfrm>
            <a:off x="2857680" y="3909960"/>
            <a:ext cx="45720" cy="4140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2857680" y="4255920"/>
            <a:ext cx="45720" cy="4140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2857680" y="4083120"/>
            <a:ext cx="45720" cy="4104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881440" y="5332320"/>
            <a:ext cx="44280" cy="4140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2881440" y="5676840"/>
            <a:ext cx="44280" cy="4140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2881440" y="5504040"/>
            <a:ext cx="44280" cy="4104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579960" y="992160"/>
            <a:ext cx="24678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IO0</a:t>
            </a:r>
            <a:r>
              <a:rPr b="1" lang="fr-CH" sz="1500" spc="-1" strike="noStrike">
                <a:solidFill>
                  <a:srgbClr val="72bfc5"/>
                </a:solidFill>
                <a:latin typeface="Arial"/>
              </a:rPr>
              <a:t>IntEnF = 1&lt;&lt;gpio0_bi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1614600" y="1465200"/>
            <a:ext cx="1347840" cy="180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962440" y="1739880"/>
            <a:ext cx="2703240" cy="144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1450800"/>
            <a:ext cx="1440" cy="27468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874600" y="1550880"/>
            <a:ext cx="154080" cy="66600"/>
            <a:chOff x="2874600" y="1550880"/>
            <a:chExt cx="154080" cy="66600"/>
          </a:xfrm>
        </p:grpSpPr>
        <p:sp>
          <p:nvSpPr>
            <p:cNvPr id="438" name=""/>
            <p:cNvSpPr/>
            <p:nvPr/>
          </p:nvSpPr>
          <p:spPr>
            <a:xfrm flipV="1">
              <a:off x="2964600" y="1550880"/>
              <a:ext cx="64080" cy="63360"/>
            </a:xfrm>
            <a:prstGeom prst="line">
              <a:avLst/>
            </a:prstGeom>
            <a:ln cap="sq" w="2232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2874600" y="1554120"/>
              <a:ext cx="81720" cy="63360"/>
            </a:xfrm>
            <a:prstGeom prst="line">
              <a:avLst/>
            </a:prstGeom>
            <a:ln cap="sq" w="2232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349280" y="2173320"/>
            <a:ext cx="1649520" cy="144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2998800" y="1892160"/>
            <a:ext cx="969840" cy="180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3003480" y="1892160"/>
            <a:ext cx="1800" cy="27648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546120" y="1865160"/>
            <a:ext cx="7380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INT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1409760"/>
            <a:ext cx="10537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pio0_b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3957480" y="1908000"/>
            <a:ext cx="1800" cy="27468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5680080" y="1476360"/>
            <a:ext cx="1440" cy="27468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5662440" y="1467000"/>
            <a:ext cx="2695680" cy="144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2243520" y="2668680"/>
            <a:ext cx="3993480" cy="315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LPC_GPIOINT-&gt;</a:t>
            </a:r>
            <a:r>
              <a:rPr b="1" lang="fr-FR" sz="1500" spc="-1" strike="noStrike">
                <a:solidFill>
                  <a:srgbClr val="ff0000"/>
                </a:solidFill>
                <a:latin typeface="Verdana"/>
              </a:rPr>
              <a:t>IO0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IntClr = 1&lt;&lt;gpio0_bit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3975120" y="2182680"/>
            <a:ext cx="1714320" cy="180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5686560" y="1901880"/>
            <a:ext cx="968400" cy="144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5689440" y="1901880"/>
            <a:ext cx="1800" cy="27612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6643800" y="1917720"/>
            <a:ext cx="1440" cy="27612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6661080" y="2193840"/>
            <a:ext cx="1347840" cy="180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76760" y="1550880"/>
            <a:ext cx="174240" cy="112680"/>
            <a:chOff x="5576760" y="1550880"/>
            <a:chExt cx="174240" cy="112680"/>
          </a:xfrm>
        </p:grpSpPr>
        <p:sp>
          <p:nvSpPr>
            <p:cNvPr id="455" name=""/>
            <p:cNvSpPr/>
            <p:nvPr/>
          </p:nvSpPr>
          <p:spPr>
            <a:xfrm>
              <a:off x="5679000" y="1555920"/>
              <a:ext cx="72000" cy="107640"/>
            </a:xfrm>
            <a:prstGeom prst="line">
              <a:avLst/>
            </a:prstGeom>
            <a:ln cap="sq" w="22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576760" y="1550880"/>
              <a:ext cx="92880" cy="108000"/>
            </a:xfrm>
            <a:prstGeom prst="line">
              <a:avLst/>
            </a:prstGeom>
            <a:ln cap="sq" w="22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857840" y="1011240"/>
            <a:ext cx="24890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IO0</a:t>
            </a:r>
            <a:r>
              <a:rPr b="1" lang="fr-CH" sz="1500" spc="-1" strike="noStrike">
                <a:solidFill>
                  <a:srgbClr val="0070c0"/>
                </a:solidFill>
                <a:latin typeface="Arial"/>
              </a:rPr>
              <a:t>IntEnR = 1&lt;&lt;gpio0_bi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8" name=""/>
          <p:cNvCxnSpPr/>
          <p:nvPr/>
        </p:nvCxnSpPr>
        <p:spPr>
          <a:xfrm flipH="1" flipV="1">
            <a:off x="3974760" y="2253600"/>
            <a:ext cx="1053360" cy="415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"/>
          <p:cNvCxnSpPr/>
          <p:nvPr/>
        </p:nvCxnSpPr>
        <p:spPr>
          <a:xfrm flipV="1">
            <a:off x="5181120" y="2275920"/>
            <a:ext cx="1466280" cy="3927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0" name=""/>
          <p:cNvSpPr/>
          <p:nvPr/>
        </p:nvSpPr>
        <p:spPr>
          <a:xfrm>
            <a:off x="6505560" y="4327560"/>
            <a:ext cx="1503360" cy="600120"/>
          </a:xfrm>
          <a:prstGeom prst="rect">
            <a:avLst/>
          </a:prstGeom>
          <a:solidFill>
            <a:srgbClr val="d1d1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</a:rPr>
              <a:t>Contrôle EINT3/GPIO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8461440" y="4456080"/>
            <a:ext cx="723960" cy="366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Verdana"/>
              </a:rPr>
              <a:t>VI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2065320" y="3222720"/>
            <a:ext cx="268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2023920" y="4297320"/>
            <a:ext cx="36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049480" y="4848120"/>
            <a:ext cx="268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2006640" y="5923080"/>
            <a:ext cx="36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3425760" y="3909960"/>
            <a:ext cx="1062000" cy="692280"/>
          </a:xfrm>
          <a:prstGeom prst="rect">
            <a:avLst/>
          </a:prstGeom>
          <a:solidFill>
            <a:srgbClr val="d1d1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ff0000"/>
                </a:solidFill>
                <a:latin typeface="Arial"/>
              </a:rPr>
              <a:t>Contrôle int. GPIO0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3459240" y="4681440"/>
            <a:ext cx="1062000" cy="692280"/>
          </a:xfrm>
          <a:prstGeom prst="rect">
            <a:avLst/>
          </a:prstGeom>
          <a:solidFill>
            <a:srgbClr val="d1d1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Contrôle int. GPIO2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47560" y="3170160"/>
            <a:ext cx="10537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pio0_b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534960" y="379440"/>
            <a:ext cx="90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ions &amp; GPIO sur LPC17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68" name=""/>
          <p:cNvCxnSpPr>
            <a:stCxn id="422" idx="3"/>
          </p:cNvCxnSpPr>
          <p:nvPr/>
        </p:nvCxnSpPr>
        <p:spPr>
          <a:xfrm>
            <a:off x="4487400" y="4255560"/>
            <a:ext cx="575640" cy="72360"/>
          </a:xfrm>
          <a:prstGeom prst="bentConnector3">
            <a:avLst>
              <a:gd name="adj1" fmla="val 70087"/>
            </a:avLst>
          </a:prstGeom>
          <a:ln cap="sq"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25" idx="3"/>
          </p:cNvCxnSpPr>
          <p:nvPr/>
        </p:nvCxnSpPr>
        <p:spPr>
          <a:xfrm flipV="1">
            <a:off x="4521240" y="4847400"/>
            <a:ext cx="543600" cy="181800"/>
          </a:xfrm>
          <a:prstGeom prst="bentConnector3">
            <a:avLst>
              <a:gd name="adj1" fmla="val 71239"/>
            </a:avLst>
          </a:prstGeom>
          <a:ln cap="sq"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E9A005F7-983E-471A-AC75-380D13520AF1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534960" y="422280"/>
            <a:ext cx="90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ercice: configurer une interruption liée à un GPIO sur LPC17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>
            <a:off x="619200" y="1603440"/>
            <a:ext cx="845028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rche à suivr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vrir le document LPC17xx_user_manual pour repérer les registres à écrire et leurs adre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’assurer qu’un GPIO du switch S1 est configuré en entré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itialiser le GPIO sur LPC1769 pour qu’il produise une interruption sur le flanc montant du GPIO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rire la routine d’interruption associée au GPI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EINT3_IRQHandler(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Le main() doit pouvoir savoir si la routine d’interruption a été appelé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Vérifiez le fonctionn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19200" y="341280"/>
            <a:ext cx="912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Méthodologie pour éviter les erreur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882F503F-EC0B-491E-BB27-4726B317F487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619200" y="1211400"/>
            <a:ext cx="8450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érifier que le vecteur de la routine d’interruption existe, qu’il se trouve à la bonne place dans la table et que la routine existe éga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er le périphérique et activer son interrup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 der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Vérifier que la routine d’interruption quittance correctement la source de l’interruption (= </a:t>
            </a:r>
            <a:r>
              <a:rPr b="0" i="1" lang="fr-CH" sz="2200" spc="-1" strike="noStrike">
                <a:solidFill>
                  <a:srgbClr val="000000"/>
                </a:solidFill>
                <a:latin typeface="Verdana"/>
              </a:rPr>
              <a:t>clear interrupt </a:t>
            </a: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dans le registre approprié du périphériqu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Vérifier que tous les regsitres utilisés dans la routine d’interruption soient </a:t>
            </a:r>
            <a:r>
              <a:rPr b="1" lang="fr-CH" sz="2200" spc="-1" strike="noStrike">
                <a:solidFill>
                  <a:srgbClr val="000000"/>
                </a:solidFill>
                <a:latin typeface="Verdana"/>
              </a:rPr>
              <a:t>sauvegardés</a:t>
            </a:r>
            <a:r>
              <a:rPr b="0" lang="fr-CH" sz="2200" spc="-1" strike="noStrike">
                <a:solidFill>
                  <a:srgbClr val="000000"/>
                </a:solidFill>
                <a:latin typeface="Verdana"/>
              </a:rPr>
              <a:t> au préalable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F757664F-4EF7-42AC-A24B-FCCAD295D186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1480" y="1820880"/>
            <a:ext cx="460080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46800" anchor="ctr">
            <a:noAutofit/>
          </a:bodyPr>
          <a:p>
            <a:pPr marL="341280" indent="-341280">
              <a:lnSpc>
                <a:spcPct val="100000"/>
              </a:lnSpc>
              <a:spcBef>
                <a:spcPts val="488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Accès aux registres de 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contrôle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statut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des périphérique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88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Parmi les registres de contrôle se trouve parfois un 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masque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d’interruption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8226360" y="3208320"/>
            <a:ext cx="57312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96280" y="2859120"/>
            <a:ext cx="73008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8799480" y="2784600"/>
            <a:ext cx="731880" cy="847440"/>
          </a:xfrm>
          <a:custGeom>
            <a:avLst/>
            <a:gdLst>
              <a:gd name="textAreaLeft" fmla="*/ 35640 w 731880"/>
              <a:gd name="textAreaRight" fmla="*/ 696240 w 731880"/>
              <a:gd name="textAreaTop" fmla="*/ 35640 h 847440"/>
              <a:gd name="textAreaBottom" fmla="*/ 811800 h 847440"/>
            </a:gdLst>
            <a:ahLst/>
            <a:rect l="textAreaLeft" t="textAreaTop" r="textAreaRight" b="textAreaBottom"/>
            <a:pathLst>
              <a:path w="21600" h="25009">
                <a:moveTo>
                  <a:pt x="3600" y="0"/>
                </a:moveTo>
                <a:arcTo wR="3600" hR="3600" stAng="16200000" swAng="-5400000"/>
                <a:lnTo>
                  <a:pt x="0" y="21409"/>
                </a:lnTo>
                <a:arcTo wR="3600" hR="3600" stAng="10800000" swAng="-5400000"/>
                <a:lnTo>
                  <a:pt x="18000" y="2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6" name=""/>
          <p:cNvCxnSpPr/>
          <p:nvPr/>
        </p:nvCxnSpPr>
        <p:spPr>
          <a:xfrm flipH="1" rot="16200000">
            <a:off x="6708600" y="1990440"/>
            <a:ext cx="345240" cy="1840320"/>
          </a:xfrm>
          <a:prstGeom prst="bentConnector2">
            <a:avLst/>
          </a:prstGeom>
          <a:ln cap="sq"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"/>
          <p:cNvSpPr/>
          <p:nvPr/>
        </p:nvSpPr>
        <p:spPr>
          <a:xfrm>
            <a:off x="7091280" y="2738520"/>
            <a:ext cx="1530360" cy="3608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090920" y="5846760"/>
            <a:ext cx="15199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Contrôle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d’interruption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7201080" y="4678200"/>
            <a:ext cx="1271520" cy="1666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7201080" y="4844880"/>
            <a:ext cx="1271520" cy="1684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7201080" y="5013360"/>
            <a:ext cx="1271520" cy="16812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201080" y="5181480"/>
            <a:ext cx="1271520" cy="1666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7201080" y="5348160"/>
            <a:ext cx="1271520" cy="1684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7201080" y="5516640"/>
            <a:ext cx="1271520" cy="16668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7227720" y="4441680"/>
            <a:ext cx="1296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Table vecteurs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102280" y="3187800"/>
            <a:ext cx="1627200" cy="998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Périphérique 2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97" name=""/>
          <p:cNvCxnSpPr/>
          <p:nvPr/>
        </p:nvCxnSpPr>
        <p:spPr>
          <a:xfrm flipV="1">
            <a:off x="6729120" y="3358800"/>
            <a:ext cx="1073520" cy="16704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"/>
          <p:cNvSpPr/>
          <p:nvPr/>
        </p:nvSpPr>
        <p:spPr>
          <a:xfrm>
            <a:off x="8159760" y="2906640"/>
            <a:ext cx="5065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6670800" y="3705120"/>
            <a:ext cx="21096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670800" y="2376360"/>
            <a:ext cx="21096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879960" y="2011320"/>
            <a:ext cx="6120" cy="16970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6880320" y="2035080"/>
            <a:ext cx="2286000" cy="32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166320" y="2011320"/>
            <a:ext cx="1440" cy="77616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7810560" y="1719360"/>
            <a:ext cx="480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01080" y="4186080"/>
            <a:ext cx="1271520" cy="255600"/>
          </a:xfrm>
          <a:prstGeom prst="rect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asque 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880320" y="4313160"/>
            <a:ext cx="31572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883560" y="5181480"/>
            <a:ext cx="317520" cy="18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07960" y="969840"/>
            <a:ext cx="44449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22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e CPU programme des interruptions pour intercepter les événements extérieurs en temps réel afin de pouvoir enclencher une action liée à l’événement reç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194440" y="3532320"/>
            <a:ext cx="1476360" cy="430200"/>
          </a:xfrm>
          <a:prstGeom prst="rect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Regist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(masque IRQ local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102280" y="1944720"/>
            <a:ext cx="1627200" cy="914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Périphérique 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194440" y="2289240"/>
            <a:ext cx="1476360" cy="430200"/>
          </a:xfrm>
          <a:prstGeom prst="rect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Regist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(masque IRQ local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507960" y="374760"/>
            <a:ext cx="84168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600" spc="-1" strike="noStrike">
                <a:solidFill>
                  <a:srgbClr val="b72c00"/>
                </a:solidFill>
                <a:latin typeface="Arial"/>
              </a:rPr>
              <a:t>Mécanisme des interrup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3984480"/>
            <a:ext cx="45878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Parfois un 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contrôleur d’interruptions 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collecte celles-ci, applique un masque pour savoir lesquelles sont actives, gère les priorités et présente une table de vecteurs associés. C’est le cas sur LPC1769 (</a:t>
            </a:r>
            <a:r>
              <a:rPr b="1" lang="fr-CH" sz="1900" spc="-1" strike="noStrike">
                <a:solidFill>
                  <a:srgbClr val="000000"/>
                </a:solidFill>
                <a:latin typeface="Arial"/>
              </a:rPr>
              <a:t>VIC ou </a:t>
            </a:r>
            <a:r>
              <a:rPr b="1" i="1" lang="fr-CH" sz="1900" spc="-1" strike="noStrike">
                <a:solidFill>
                  <a:srgbClr val="000000"/>
                </a:solidFill>
                <a:latin typeface="Arial"/>
              </a:rPr>
              <a:t>Vectored Interrupt Controller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77080" y="3706920"/>
            <a:ext cx="1440" cy="149688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4200" y="374760"/>
            <a:ext cx="8416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600" spc="-1" strike="noStrike">
                <a:solidFill>
                  <a:srgbClr val="b72c00"/>
                </a:solidFill>
                <a:latin typeface="Arial"/>
              </a:rPr>
              <a:t>Métho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549360" y="1666800"/>
            <a:ext cx="8667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rompre «brutalement» l’exécution d’un programme en cours à la fin de l’instruction coura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uvegarder l’état présent du microprocesseur (Registres : PC, R0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x, CPS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écution d’un sous programme dépendant de la nature de l’interru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titution de l’état du microprocesse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ation du programme « brutalement » interromp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29FCD09E-ED30-4458-A0A0-B9883ECEC923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1147680"/>
            <a:ext cx="808668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marL="324000" indent="-324000">
              <a:lnSpc>
                <a:spcPct val="100000"/>
              </a:lnSpc>
              <a:spcBef>
                <a:spcPts val="11"/>
              </a:spcBef>
              <a:spcAft>
                <a:spcPts val="1151"/>
              </a:spcAft>
              <a:buClr>
                <a:srgbClr val="000000"/>
              </a:buClr>
              <a:buFont typeface="Arial"/>
              <a:buChar char="•"/>
              <a:tabLst>
                <a:tab algn="l" pos="324000"/>
                <a:tab algn="l" pos="1238400"/>
                <a:tab algn="l" pos="2152800"/>
                <a:tab algn="l" pos="3067200"/>
                <a:tab algn="l" pos="3981600"/>
                <a:tab algn="l" pos="4896000"/>
                <a:tab algn="l" pos="5810400"/>
                <a:tab algn="l" pos="6724800"/>
                <a:tab algn="l" pos="7639200"/>
                <a:tab algn="l" pos="8553600"/>
                <a:tab algn="l" pos="9468000"/>
                <a:tab algn="l" pos="10382400"/>
                <a:tab algn="l" pos="10515600"/>
                <a:tab algn="l" pos="1078236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sauvegarde de contexte dans le cadre d’une exception</a:t>
            </a: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 consiste à sauver tous les registres du processeur qui sont utilisés dans une routine sur la 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pil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4000" indent="-324000">
              <a:lnSpc>
                <a:spcPct val="100000"/>
              </a:lnSpc>
              <a:spcBef>
                <a:spcPts val="11"/>
              </a:spcBef>
              <a:spcAft>
                <a:spcPts val="1151"/>
              </a:spcAft>
              <a:buClr>
                <a:srgbClr val="000000"/>
              </a:buClr>
              <a:buFont typeface="Arial"/>
              <a:buChar char="•"/>
              <a:tabLst>
                <a:tab algn="l" pos="324000"/>
                <a:tab algn="l" pos="1238400"/>
                <a:tab algn="l" pos="2152800"/>
                <a:tab algn="l" pos="3067200"/>
                <a:tab algn="l" pos="3981600"/>
                <a:tab algn="l" pos="4896000"/>
                <a:tab algn="l" pos="5810400"/>
                <a:tab algn="l" pos="6724800"/>
                <a:tab algn="l" pos="7639200"/>
                <a:tab algn="l" pos="8553600"/>
                <a:tab algn="l" pos="9468000"/>
                <a:tab algn="l" pos="10382400"/>
                <a:tab algn="l" pos="10515600"/>
                <a:tab algn="l" pos="1078236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La restitution du contexte est l’opération invers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4000" indent="-324000">
              <a:lnSpc>
                <a:spcPct val="100000"/>
              </a:lnSpc>
              <a:spcBef>
                <a:spcPts val="11"/>
              </a:spcBef>
              <a:spcAft>
                <a:spcPts val="1151"/>
              </a:spcAft>
              <a:buClr>
                <a:srgbClr val="000000"/>
              </a:buClr>
              <a:buFont typeface="Arial"/>
              <a:buChar char="•"/>
              <a:tabLst>
                <a:tab algn="l" pos="324000"/>
                <a:tab algn="l" pos="1238400"/>
                <a:tab algn="l" pos="2152800"/>
                <a:tab algn="l" pos="3067200"/>
                <a:tab algn="l" pos="3981600"/>
                <a:tab algn="l" pos="4896000"/>
                <a:tab algn="l" pos="5810400"/>
                <a:tab algn="l" pos="6724800"/>
                <a:tab algn="l" pos="7639200"/>
                <a:tab algn="l" pos="8553600"/>
                <a:tab algn="l" pos="9468000"/>
                <a:tab algn="l" pos="10382400"/>
                <a:tab algn="l" pos="10515600"/>
                <a:tab algn="l" pos="1078236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Ce procédé permet au processeur d’interrompre un traitement à n’importe quel moment pour en exécuter un autre, puis de terminer le premier traitement plus tar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4000" indent="-324000">
              <a:lnSpc>
                <a:spcPct val="100000"/>
              </a:lnSpc>
              <a:spcBef>
                <a:spcPts val="11"/>
              </a:spcBef>
              <a:spcAft>
                <a:spcPts val="1151"/>
              </a:spcAft>
              <a:buClr>
                <a:srgbClr val="000000"/>
              </a:buClr>
              <a:buFont typeface="Arial"/>
              <a:buChar char="•"/>
              <a:tabLst>
                <a:tab algn="l" pos="324000"/>
                <a:tab algn="l" pos="1238400"/>
                <a:tab algn="l" pos="2152800"/>
                <a:tab algn="l" pos="3067200"/>
                <a:tab algn="l" pos="3981600"/>
                <a:tab algn="l" pos="4896000"/>
                <a:tab algn="l" pos="5810400"/>
                <a:tab algn="l" pos="6724800"/>
                <a:tab algn="l" pos="7639200"/>
                <a:tab algn="l" pos="8553600"/>
                <a:tab algn="l" pos="9468000"/>
                <a:tab algn="l" pos="10382400"/>
                <a:tab algn="l" pos="10515600"/>
                <a:tab algn="l" pos="1078236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Sur LPC1769 dans le cadre des interruptions vectorisées (VIC), 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le microcontrôleur se charge de sauver l’ensemble des registre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4000" indent="-324000">
              <a:lnSpc>
                <a:spcPct val="100000"/>
              </a:lnSpc>
              <a:spcBef>
                <a:spcPts val="11"/>
              </a:spcBef>
              <a:spcAft>
                <a:spcPts val="1151"/>
              </a:spcAft>
              <a:buClr>
                <a:srgbClr val="000000"/>
              </a:buClr>
              <a:buFont typeface="Arial"/>
              <a:buChar char="•"/>
              <a:tabLst>
                <a:tab algn="l" pos="324000"/>
                <a:tab algn="l" pos="1238400"/>
                <a:tab algn="l" pos="2152800"/>
                <a:tab algn="l" pos="3067200"/>
                <a:tab algn="l" pos="3981600"/>
                <a:tab algn="l" pos="4896000"/>
                <a:tab algn="l" pos="5810400"/>
                <a:tab algn="l" pos="6724800"/>
                <a:tab algn="l" pos="7639200"/>
                <a:tab algn="l" pos="8553600"/>
                <a:tab algn="l" pos="9468000"/>
                <a:tab algn="l" pos="10382400"/>
                <a:tab algn="l" pos="10515600"/>
                <a:tab algn="l" pos="1078236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Attention!</a:t>
            </a: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 Sur de nombreux processeurs, c’est à l’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utilisateur </a:t>
            </a:r>
            <a:r>
              <a:rPr b="0" lang="fr-CH" sz="2300" spc="-1" strike="noStrike">
                <a:solidFill>
                  <a:srgbClr val="000000"/>
                </a:solidFill>
                <a:latin typeface="Arial"/>
              </a:rPr>
              <a:t>de sauver l’ensemble minimum de ces registre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534960" y="379440"/>
            <a:ext cx="90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uvegarde de contexte d’une exception 1/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279668C2-62C6-4824-9DCF-855AFD90C47E}" type="slidenum">
              <a:rPr b="0" lang="fr-FR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63720" y="1735200"/>
            <a:ext cx="1212840" cy="2971800"/>
          </a:xfrm>
          <a:prstGeom prst="rect">
            <a:avLst/>
          </a:prstGeom>
          <a:solidFill>
            <a:srgbClr val="e5e5e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958680" y="1255680"/>
            <a:ext cx="12229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106800" y="1727280"/>
            <a:ext cx="1212840" cy="2841480"/>
          </a:xfrm>
          <a:prstGeom prst="rect">
            <a:avLst/>
          </a:prstGeom>
          <a:solidFill>
            <a:srgbClr val="e5e5e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1236600"/>
            <a:ext cx="9590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3c8c93"/>
                </a:solidFill>
                <a:latin typeface="Arial"/>
              </a:rPr>
              <a:t>Mémoi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3c8c93"/>
                </a:solidFill>
                <a:latin typeface="Arial"/>
              </a:rPr>
              <a:t>donné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63720" y="2219400"/>
            <a:ext cx="1212840" cy="7603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963720" y="3848040"/>
            <a:ext cx="1212840" cy="48420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106800" y="1919160"/>
            <a:ext cx="1212840" cy="760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Pi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28" name=""/>
          <p:cNvCxnSpPr>
            <a:endCxn id="225" idx="3"/>
          </p:cNvCxnSpPr>
          <p:nvPr/>
        </p:nvCxnSpPr>
        <p:spPr>
          <a:xfrm flipH="1">
            <a:off x="2175840" y="2598840"/>
            <a:ext cx="337320" cy="2160"/>
          </a:xfrm>
          <a:prstGeom prst="straightConnector1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351160" y="2281320"/>
            <a:ext cx="42408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811160" y="2624040"/>
            <a:ext cx="769320" cy="1219320"/>
            <a:chOff x="1811160" y="2624040"/>
            <a:chExt cx="769320" cy="1219320"/>
          </a:xfrm>
        </p:grpSpPr>
        <p:sp>
          <p:nvSpPr>
            <p:cNvPr id="231" name=""/>
            <p:cNvSpPr/>
            <p:nvPr/>
          </p:nvSpPr>
          <p:spPr>
            <a:xfrm>
              <a:off x="1811160" y="2624040"/>
              <a:ext cx="727200" cy="1219320"/>
            </a:xfrm>
            <a:custGeom>
              <a:avLst/>
              <a:gdLst/>
              <a:ahLst/>
              <a:rect l="l" t="t" r="r" b="b"/>
              <a:pathLst>
                <a:path stroke="0" w="743087" h="1348434">
                  <a:moveTo>
                    <a:pt x="371543" y="0"/>
                  </a:moveTo>
                  <a:cubicBezTo>
                    <a:pt x="533718" y="0"/>
                    <a:pt x="677156" y="190875"/>
                    <a:pt x="725904" y="471553"/>
                  </a:cubicBezTo>
                  <a:cubicBezTo>
                    <a:pt x="749127" y="605263"/>
                    <a:pt x="748803" y="748783"/>
                    <a:pt x="724977" y="882143"/>
                  </a:cubicBezTo>
                  <a:cubicBezTo>
                    <a:pt x="674368" y="1165418"/>
                    <a:pt x="527340" y="1354892"/>
                    <a:pt x="363276" y="1348267"/>
                  </a:cubicBezTo>
                  <a:lnTo>
                    <a:pt x="371544" y="674217"/>
                  </a:lnTo>
                  <a:cubicBezTo>
                    <a:pt x="371544" y="449478"/>
                    <a:pt x="371543" y="224739"/>
                    <a:pt x="371543" y="0"/>
                  </a:cubicBezTo>
                  <a:close/>
                </a:path>
                <a:path fill="none" w="743087" h="1348434">
                  <a:moveTo>
                    <a:pt x="371543" y="0"/>
                  </a:moveTo>
                  <a:cubicBezTo>
                    <a:pt x="533718" y="0"/>
                    <a:pt x="677156" y="190875"/>
                    <a:pt x="725904" y="471553"/>
                  </a:cubicBezTo>
                  <a:cubicBezTo>
                    <a:pt x="749127" y="605263"/>
                    <a:pt x="748803" y="748783"/>
                    <a:pt x="724977" y="882143"/>
                  </a:cubicBezTo>
                  <a:cubicBezTo>
                    <a:pt x="674368" y="1165418"/>
                    <a:pt x="527340" y="1354892"/>
                    <a:pt x="363276" y="13482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9960" y="30891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  <a:tab algn="l" pos="1078236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06800" y="2679840"/>
            <a:ext cx="1212840" cy="31104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Sauv. reg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3106800" y="2990880"/>
            <a:ext cx="1212840" cy="19836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199120" y="1727280"/>
            <a:ext cx="1214280" cy="2971800"/>
          </a:xfrm>
          <a:prstGeom prst="rect">
            <a:avLst/>
          </a:prstGeom>
          <a:solidFill>
            <a:srgbClr val="e5e5e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5195880" y="1246320"/>
            <a:ext cx="12229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7343640" y="1719360"/>
            <a:ext cx="1212840" cy="2849400"/>
          </a:xfrm>
          <a:prstGeom prst="rect">
            <a:avLst/>
          </a:prstGeom>
          <a:solidFill>
            <a:srgbClr val="e5e5e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7440480" y="1228680"/>
            <a:ext cx="9590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3c8c93"/>
                </a:solidFill>
                <a:latin typeface="Arial"/>
              </a:rPr>
              <a:t>Mémoi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3c8c93"/>
                </a:solidFill>
                <a:latin typeface="Arial"/>
              </a:rPr>
              <a:t>donné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199120" y="2211480"/>
            <a:ext cx="1214280" cy="7603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199120" y="3840120"/>
            <a:ext cx="1214280" cy="48420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7343640" y="1911240"/>
            <a:ext cx="1212840" cy="760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Pi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2" name=""/>
          <p:cNvCxnSpPr>
            <a:endCxn id="239" idx="3"/>
          </p:cNvCxnSpPr>
          <p:nvPr/>
        </p:nvCxnSpPr>
        <p:spPr>
          <a:xfrm flipH="1">
            <a:off x="6412680" y="2590920"/>
            <a:ext cx="337320" cy="2160"/>
          </a:xfrm>
          <a:prstGeom prst="straightConnector1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6588000" y="2273400"/>
            <a:ext cx="42408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51360" y="2598840"/>
            <a:ext cx="1372680" cy="1730160"/>
            <a:chOff x="5751360" y="2598840"/>
            <a:chExt cx="1372680" cy="1730160"/>
          </a:xfrm>
        </p:grpSpPr>
        <p:sp>
          <p:nvSpPr>
            <p:cNvPr id="245" name=""/>
            <p:cNvSpPr/>
            <p:nvPr/>
          </p:nvSpPr>
          <p:spPr>
            <a:xfrm flipV="1">
              <a:off x="5751360" y="2598840"/>
              <a:ext cx="1335240" cy="1730160"/>
            </a:xfrm>
            <a:custGeom>
              <a:avLst/>
              <a:gdLst/>
              <a:ahLst/>
              <a:rect l="l" t="t" r="r" b="b"/>
              <a:pathLst>
                <a:path stroke="0" w="1362877" h="1910765">
                  <a:moveTo>
                    <a:pt x="681438" y="0"/>
                  </a:moveTo>
                  <a:cubicBezTo>
                    <a:pt x="958390" y="0"/>
                    <a:pt x="1207793" y="235002"/>
                    <a:pt x="1312400" y="594528"/>
                  </a:cubicBezTo>
                  <a:cubicBezTo>
                    <a:pt x="1380593" y="828903"/>
                    <a:pt x="1379658" y="1091640"/>
                    <a:pt x="1309799" y="1325050"/>
                  </a:cubicBezTo>
                  <a:cubicBezTo>
                    <a:pt x="1201945" y="1685410"/>
                    <a:pt x="948424" y="1917344"/>
                    <a:pt x="669723" y="1910625"/>
                  </a:cubicBezTo>
                  <a:lnTo>
                    <a:pt x="681439" y="955383"/>
                  </a:lnTo>
                  <a:cubicBezTo>
                    <a:pt x="681439" y="636922"/>
                    <a:pt x="681438" y="318461"/>
                    <a:pt x="681438" y="0"/>
                  </a:cubicBezTo>
                  <a:close/>
                </a:path>
                <a:path fill="none" w="1362877" h="1910765">
                  <a:moveTo>
                    <a:pt x="681438" y="0"/>
                  </a:moveTo>
                  <a:cubicBezTo>
                    <a:pt x="958390" y="0"/>
                    <a:pt x="1207793" y="235002"/>
                    <a:pt x="1312400" y="594528"/>
                  </a:cubicBezTo>
                  <a:cubicBezTo>
                    <a:pt x="1380593" y="828903"/>
                    <a:pt x="1379658" y="1091640"/>
                    <a:pt x="1309799" y="1325050"/>
                  </a:cubicBezTo>
                  <a:cubicBezTo>
                    <a:pt x="1201945" y="1685410"/>
                    <a:pt x="948424" y="1917344"/>
                    <a:pt x="669723" y="19106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3520" y="339732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  <a:tab algn="l" pos="1078236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343640" y="2671920"/>
            <a:ext cx="1212840" cy="31104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482640" y="3848040"/>
            <a:ext cx="45936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7804080" y="3840120"/>
            <a:ext cx="45936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1084320" y="4950000"/>
            <a:ext cx="731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Remarque: les mémoire de programme et de données peuvent aussi être un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7343640" y="2979720"/>
            <a:ext cx="1212840" cy="20952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34960" y="379440"/>
            <a:ext cx="90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uvegarde de contexte d’une exception 2/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54200" y="374760"/>
            <a:ext cx="8416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600" spc="-1" strike="noStrike">
                <a:solidFill>
                  <a:srgbClr val="b72c00"/>
                </a:solidFill>
                <a:latin typeface="Arial"/>
              </a:rPr>
              <a:t>Gestionnaire d’interrup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20560" y="1063800"/>
            <a:ext cx="86677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que périphérique a la possibilité (à l’exception de quelques uns) de générer un signal d’interruption. Ce signal d’interruption est connecté à un module: le </a:t>
            </a:r>
            <a:r>
              <a:rPr b="0" lang="fr-FR" sz="2400" spc="-1" strike="noStrike">
                <a:solidFill>
                  <a:srgbClr val="b72c00"/>
                </a:solidFill>
                <a:latin typeface="Arial"/>
              </a:rPr>
              <a:t>gestionnaire d’interruption vectoris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I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anglais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ctored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terrup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troler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IC centralise tous les signaux d’interruptions de tous les périphériques et  les fait correspondre à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able de vecteurs d’interru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vecteurs sont simplement des registres du VIC qui contiennent l’adresse de chaque routine d’interru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 LPC1769, le VIC possède 35 vecteurs d’interru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CD38CDBA-EE1D-45DC-AE41-3C63EF5ED6AE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19240" y="233280"/>
            <a:ext cx="9467640" cy="6391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rot="19980000">
            <a:off x="3755520" y="1798560"/>
            <a:ext cx="46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9600" spc="-1" strike="noStrike">
                <a:solidFill>
                  <a:srgbClr val="bfbfbf"/>
                </a:solidFill>
                <a:latin typeface="Verdana"/>
              </a:rPr>
              <a:t>(extrait)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8C6DACBD-4938-4AA4-9F77-AA902F5DBC77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692600" y="93600"/>
            <a:ext cx="495288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void (* const g_pfnVectors[])(void) = {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// Core Level - CM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_vStackTop, // The initial stack poi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ResetISR,// The reset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NMI_Handler,// The NMI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HardFault_Handler,// The hard fault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emManage_Handler,// The MPU fault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BusFault_Handler,// The bus fault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UsageFault_Handler,// The usage fault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,// Reserv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,// Reserv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,// Reserv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,// Reserv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VC_Handler,// SVCall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ebugMon_Handler,// Debug monitor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0,// Reserv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endSV_Handler,// The PendSV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ysTick_Handler,// The SysTick handl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// Chip Level - LPC1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WDT_IRQHandler,// 16, 0x40 - WD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IMER0_IRQHandler,// 17, 0x44 - TIMER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IMER1_IRQHandler,// 18, 0x48 - TIMER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IMER2_IRQHandler,// 19, 0x4c - TIMER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IMER3_IRQHandler,// 20, 0x50 - TIMER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UART0_IRQHandler,// 21, 0x54 - UART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UART1_IRQHandler,// 22, 0x58 - UART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UART2_IRQHandler,// 23, 0x5c - UART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UART3_IRQHandler,// 24, 0x60 - UART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WM1_IRQHandler,// 25, 0x64 - PWM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2C0_IRQHandler,// 26, 0x68 - I2C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09680" y="2270160"/>
            <a:ext cx="4011480" cy="256860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 fichier cr_startup_lpc1x.c contient l’initialisation par défaut de la table de vecteurs d’interrup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ttention de ne pas rajouter de ligne dans la structu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s noms des routines sont prédéfinis mais peuvent être modifié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695920" y="64929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fld id="{AB71F967-6B2B-44BF-AA62-4BC7FE3179FE}" type="slidenum">
              <a:rPr b="0" lang="fr-FR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2228760" y="6492960"/>
            <a:ext cx="3137040" cy="365040"/>
          </a:xfrm>
          <a:custGeom>
            <a:avLst/>
            <a:gdLst/>
            <a:ahLst/>
            <a:rect l="l" t="t" r="r" b="b"/>
            <a:pathLst>
              <a:path w="2895600" h="365125">
                <a:moveTo>
                  <a:pt x="0" y="0"/>
                </a:moveTo>
                <a:lnTo>
                  <a:pt x="2895600" y="0"/>
                </a:lnTo>
                <a:lnTo>
                  <a:pt x="2895600" y="365125"/>
                </a:lnTo>
                <a:lnTo>
                  <a:pt x="0" y="365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535800" y="2733840"/>
            <a:ext cx="1442880" cy="12207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216320" y="1154160"/>
            <a:ext cx="1532160" cy="4381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4205160" y="4730760"/>
            <a:ext cx="15955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Contrôle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d’interruptions (VIC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325760" y="2206800"/>
            <a:ext cx="1296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Verdana"/>
              </a:rPr>
              <a:t>Table vecteurs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886360" y="3027240"/>
            <a:ext cx="5065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256520" y="969840"/>
            <a:ext cx="1440" cy="176688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2117880" y="969840"/>
            <a:ext cx="5167080" cy="50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62600" y="974520"/>
            <a:ext cx="22320" cy="18252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459480" y="1004760"/>
            <a:ext cx="480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4365720" y="1757520"/>
            <a:ext cx="1272960" cy="2556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500" spc="-1" strike="noStrike">
                <a:solidFill>
                  <a:srgbClr val="ff0000"/>
                </a:solidFill>
                <a:latin typeface="Arial"/>
              </a:rPr>
              <a:t>Masque </a:t>
            </a:r>
            <a:r>
              <a:rPr b="1" lang="fr-CH" sz="1300" spc="-1" strike="noStrike">
                <a:solidFill>
                  <a:srgbClr val="ff0000"/>
                </a:solidFill>
                <a:latin typeface="Arial"/>
              </a:rPr>
              <a:t>IRQ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303200" y="1549440"/>
            <a:ext cx="1627200" cy="28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500" spc="-1" strike="noStrike">
                <a:solidFill>
                  <a:srgbClr val="000000"/>
                </a:solidFill>
                <a:latin typeface="Verdana"/>
              </a:rPr>
              <a:t>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379520" y="206208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1" lang="fr-CH" sz="1400" spc="-1" strike="noStrike">
                <a:solidFill>
                  <a:srgbClr val="ff0000"/>
                </a:solidFill>
                <a:latin typeface="Arial"/>
              </a:rPr>
              <a:t>Masque interrup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667040" y="204480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698720" y="3627360"/>
            <a:ext cx="6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1379520" y="268776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Clear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nt. (écri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379520" y="3305160"/>
            <a:ext cx="147636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tatus int. = ‘</a:t>
            </a: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’  (lecture seul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81" name=""/>
          <p:cNvCxnSpPr>
            <a:stCxn id="280" idx="3"/>
            <a:endCxn id="266" idx="1"/>
          </p:cNvCxnSpPr>
          <p:nvPr/>
        </p:nvCxnSpPr>
        <p:spPr>
          <a:xfrm flipV="1">
            <a:off x="2855520" y="3345840"/>
            <a:ext cx="1360800" cy="175320"/>
          </a:xfrm>
          <a:prstGeom prst="bentConnector3">
            <a:avLst>
              <a:gd name="adj1" fmla="val 49986"/>
            </a:avLst>
          </a:prstGeom>
          <a:ln cap="sq"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82" name=""/>
          <p:cNvCxnSpPr/>
          <p:nvPr/>
        </p:nvCxnSpPr>
        <p:spPr>
          <a:xfrm flipV="1">
            <a:off x="2517480" y="4592160"/>
            <a:ext cx="1688040" cy="9201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3" name=""/>
          <p:cNvCxnSpPr/>
          <p:nvPr/>
        </p:nvCxnSpPr>
        <p:spPr>
          <a:xfrm flipV="1">
            <a:off x="4962600" y="5535000"/>
            <a:ext cx="2160" cy="74196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4" name=""/>
          <p:cNvCxnSpPr/>
          <p:nvPr/>
        </p:nvCxnSpPr>
        <p:spPr>
          <a:xfrm>
            <a:off x="5748120" y="3344400"/>
            <a:ext cx="78804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3238200" y="1323720"/>
            <a:ext cx="967320" cy="572040"/>
          </a:xfrm>
          <a:prstGeom prst="straightConnector1">
            <a:avLst/>
          </a:prstGeom>
          <a:ln cap="sq" w="190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86" name=""/>
          <p:cNvSpPr/>
          <p:nvPr/>
        </p:nvSpPr>
        <p:spPr>
          <a:xfrm>
            <a:off x="7232760" y="6097680"/>
            <a:ext cx="20901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IRQ: </a:t>
            </a:r>
            <a:r>
              <a:rPr b="0" i="1" lang="fr-FR" sz="1500" spc="-1" strike="noStrike">
                <a:solidFill>
                  <a:srgbClr val="000000"/>
                </a:solidFill>
                <a:latin typeface="Verdana"/>
              </a:rPr>
              <a:t>Interrupt Reques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54200" y="374760"/>
            <a:ext cx="8416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FR" sz="3600" spc="-1" strike="noStrike">
                <a:solidFill>
                  <a:srgbClr val="b72c00"/>
                </a:solidFill>
                <a:latin typeface="Arial"/>
              </a:rPr>
              <a:t>Initialisation d’une interrup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256520" y="3954240"/>
            <a:ext cx="1440" cy="44604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6472080" y="4383000"/>
            <a:ext cx="1625760" cy="1719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émoire programm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472080" y="4933800"/>
            <a:ext cx="1625760" cy="465120"/>
          </a:xfrm>
          <a:prstGeom prst="rect">
            <a:avLst/>
          </a:prstGeom>
          <a:solidFill>
            <a:srgbClr val="9999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Tâche d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472080" y="5610240"/>
            <a:ext cx="1625760" cy="492120"/>
          </a:xfrm>
          <a:prstGeom prst="rect">
            <a:avLst/>
          </a:prstGeom>
          <a:solidFill>
            <a:srgbClr val="6b6bc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Verdana"/>
              </a:rPr>
              <a:t>Routine int. ISR_device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318440" y="3519360"/>
            <a:ext cx="523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cap="sq"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600" spc="-1" strike="noStrike">
                <a:solidFill>
                  <a:srgbClr val="224b5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3" name=""/>
          <p:cNvCxnSpPr>
            <a:stCxn id="292" idx="3"/>
            <a:endCxn id="289" idx="3"/>
          </p:cNvCxnSpPr>
          <p:nvPr/>
        </p:nvCxnSpPr>
        <p:spPr>
          <a:xfrm>
            <a:off x="7842240" y="3711240"/>
            <a:ext cx="255960" cy="153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31680">
            <a:solidFill>
              <a:srgbClr val="000000"/>
            </a:solidFill>
            <a:custDash>
              <a:ds d="100000" sp="100000"/>
            </a:custDash>
            <a:miter/>
            <a:tailEnd len="med" type="stealth" w="lg"/>
          </a:ln>
        </p:spPr>
      </p:cxnSp>
      <p:sp>
        <p:nvSpPr>
          <p:cNvPr id="294" name=""/>
          <p:cNvSpPr/>
          <p:nvPr/>
        </p:nvSpPr>
        <p:spPr>
          <a:xfrm flipH="1" flipV="1">
            <a:off x="2117880" y="969480"/>
            <a:ext cx="7920" cy="59868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4338720" y="3095640"/>
            <a:ext cx="1349280" cy="3348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23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dr. ISR_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device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4338720" y="3430440"/>
            <a:ext cx="1349280" cy="33516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338720" y="3765600"/>
            <a:ext cx="1349280" cy="33012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4338720" y="2747880"/>
            <a:ext cx="1349280" cy="336600"/>
          </a:xfrm>
          <a:prstGeom prst="rect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59:36Z</dcterms:created>
  <dc:creator>Beuchat</dc:creator>
  <dc:description/>
  <dc:language>en-US</dc:language>
  <cp:lastModifiedBy/>
  <cp:lastPrinted>2014-11-13T12:41:09Z</cp:lastPrinted>
  <dcterms:modified xsi:type="dcterms:W3CDTF">2023-03-05T16:59:38Z</dcterms:modified>
  <cp:revision>286</cp:revision>
  <dc:subject/>
  <dc:title>Microcontrôleur 68HC12</dc:title>
</cp:coreProperties>
</file>