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-36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CB40-5473-489A-BB70-F76CAD0F29B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CE92-0D35-4EDA-9D83-18B44F61CC2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CA64C3-FC56-433F-9EF5-588FDD865A1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7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DEEC1-9CEE-4B28-8180-C97B741BB07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6B2994-8209-4C14-80B1-FB9E706EBFA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2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A483E-CAF5-43E1-9B88-16E71801298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9AB0A0-BF04-451E-8B0E-8369E8AA9E1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8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BAC73-B39B-4794-B45C-60DC71468D8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719F1E-2813-40CB-A2AF-2C5E8E210BD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4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09601-3C98-4D72-A08C-8E492C61B55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EE1088-78C9-4544-B73C-91C5044277E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0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82605-21B8-47A1-91EC-B662A333881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152EF3-C04B-49F0-A3E3-CBA632B84FA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C86C8-E730-4C99-A98E-6CF2155CA53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2CA53D-A212-4047-AE91-7B368870DBF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867F1-DE7C-4D38-B0A7-6BB6C43F7A9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03DAC4-5DC1-4EB8-8053-FAC584E0999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66C1-7025-409F-BA1E-D5A16C09DF6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1FC486-04D5-4036-8255-B425F635C4F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4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66FA5-6B6F-4EEF-934E-B2A31C55B0B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9B5AB8-5986-4131-BE10-38FF9B543BE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7175D-38E4-4313-A161-8F8CD2FF568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0945D1-6D3E-4C10-BBFB-90CF8FA756A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88F76-B219-4E40-A24F-7ABE6825EC3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32CE4E-D7DE-4E93-9BE3-58C3AF2B71C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3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BAA5F-DF92-45CD-9E28-F00C81AAA3A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5584C8-FCB4-41A0-AFB3-BF58A2FB796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64B5B-4580-4D59-964D-287ADE03B4B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EB23DC-0E36-4EBC-BF5A-C820C63AAD9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1AFFB-C62A-4895-875D-685EA20896F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CD5B4F-2F9F-4EE0-8D32-A241F177074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4FE2A-20D3-47F7-BA9F-4CBAF8B090A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C7CA7B-F630-4236-BC26-2A2AF1CA9F0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1DF2E-6491-4A09-AF19-0B686DDA704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CF9263-325F-48F2-9A1B-FAFB2853C4A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5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F5268-6F2A-4596-90BD-F499A5675E7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9386A9-169A-4F4B-B485-0EB5BBF2C63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1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905DF-A6FB-4F66-901D-B20223FF5B5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DCF52B-F1FF-41E8-92CC-C33A0EE604D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1A49E4-5A6B-4512-B0AD-2EFF76EF07E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8" name="Text Box 5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92F55-CB65-4F0C-B9D5-07DD57E64C6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2DD42F-B4CC-4AFF-86B0-A5BB55B87E8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4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A5F63-EBE3-4086-9A7E-7F0712272F7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DDF91E-6203-4E7D-91C0-C9B913FB1E3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0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16F28-683C-4E67-BD86-66064709F0F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"/>
          <p:cNvSpPr/>
          <p:nvPr/>
        </p:nvSpPr>
        <p:spPr>
          <a:xfrm>
            <a:off x="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"/>
          <p:cNvSpPr/>
          <p:nvPr/>
        </p:nvSpPr>
        <p:spPr>
          <a:xfrm>
            <a:off x="4022640" y="9723600"/>
            <a:ext cx="3075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3A38E5-6689-4390-ACF5-C03373D4A55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6" name="Text Box 4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7F4C-88E9-4B22-A1F6-9626D9A82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C6A9-E133-4D5E-A117-B445B08AC9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0879D-E469-450F-B45F-5E653463AF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F9639-FF95-4C1E-A2FE-499C40A059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7B4876-3EA1-4A38-9DF6-C4693909C5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B6535-C32B-4466-B248-ED129C7E73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5E486A-BDFD-4F0C-97F1-FE6C1D1BA9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6138E-D3C0-4ED1-871C-64BB7E537E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A145A-5FD9-452F-AB82-FA85BE4791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4BE60-9478-43C6-9CEF-7A1CD35977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6581F-CA91-4B8C-B7A2-04626A8D00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D680-06BC-41B5-89F6-5B8CE8451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7B6C-4CD0-46C9-A7EB-7DC5C5F74F4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40A3-F234-4EA1-A88F-BCDC4D43D0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03A9-4761-4E39-87B2-3ABDB387A4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6A5BF-2276-4050-9B07-7C83F6607F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6AE1F-23D3-4E9C-B39C-D8AB23461D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63E3-9DD0-4208-8ED0-5CBC2BB006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EFF90-E623-4D49-9E91-CEE248ADFB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2E4D-E2CC-40F1-A6B4-D8091EA294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5F992-D3BC-478C-9B62-51F830D2D4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315F-2C31-401C-86EC-891E831353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4259-A5B7-4A7E-8000-3A34CB1FA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6065-D8E9-409E-B493-1645C4CF8C4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21B45-E586-44EA-B6D9-52ACB72C1EE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BA9EF-60E9-4FE1-A649-FEC22E4070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D9659-1629-41A8-9CBF-C0AE290D0E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28957-29FC-4029-A25B-08ED550E11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D8155-F812-4789-8A81-4BB71B6D0E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7CAF8-5E01-47E5-AAC3-A887943CC3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77BCC-56C4-400E-9110-FA90BEFCDB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6EC49-EC43-4512-B169-99A1EC61BAE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D6C98-1A08-42FD-BE6B-6FF3EF9AD9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68E7F-99B6-4258-B24C-A9BAFDA2D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8CA64-E9EA-4367-81EC-1BB3E05198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0D5A2-C92D-4DBF-8F6F-1F360428CB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48540-4E3C-4F0B-B630-DA14939E7F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E5B8E4-BD23-4A9C-B8E9-B2331724F25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E7E96-CB10-42D3-82FE-BA914ED14C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5B49B-ED59-49F7-9502-1853A0DD753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44F9DC-545B-405D-AC60-42CF1D668E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20DE5-F50D-4C4F-B20C-77F7CC3DF9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4C240-E131-4B8A-9CAC-EBAF03C022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137E5A-0A54-4178-B9A6-85777217EB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2E4D0-8B71-454C-BE6E-3B76E93FF4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2AB4D-A2C5-450B-A6A5-9C5409CDAE6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1D6435-BB80-47FE-BE50-2246CF7A18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1A5DA0-EADD-477F-A5AB-41CAC407144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00FC7-E77D-4E5A-B358-AB2BC8C105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8713-C88B-469C-81A9-122F1DD0B1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E238-4D35-4F84-A1C1-FC3396312E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430ED-0652-4A2E-8203-1C9265DCEE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378B9-6DBB-4A05-818E-BC26629A60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E269-147E-4D4A-80E5-937B8E1005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8A07-E539-4D5C-B01E-0D01A8A6AD1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65EC-1A94-4F4F-83D5-5D558FD78E5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A8F0-B141-4B34-AFB7-1FDDF3FCDFD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8497B-5EF3-4919-A26F-49CEC1A662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01D03-5F39-4EF5-9612-5255C91F7E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E485-1DAD-4652-B94B-C5ECF6D8D4F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E736-A7B2-4CFC-A988-9EC472B470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8A1A65-DE0D-4BDA-BC13-FBB98858817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F308C-55CD-4147-ABE8-90AF9ECFBC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DCD10-3ACF-41D8-84B3-41E133D5A7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A4040C-89D2-45C4-BCFD-1703BEFF44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6D0AF-61C9-4C47-B6E8-1BE4629EE9D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18DEA0-6DEC-45B0-B679-D7F5B25821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A698B-8BE7-4EAF-BD62-9B0EA809025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7D986-7E05-4140-816C-AFBB06A3AB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43C0E-48D3-4D4C-98A7-56BD7C7EB5A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F2CCB-90FE-4139-8425-EDB7F7CB33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B10A7-C26D-45A5-B3AE-DD9A6729F18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BA3D9-02F0-4C40-A014-30C18A5A88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F1876-1DE0-4BE5-8274-F579DE582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269B6-E361-42B1-981F-E234602D1A9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B5A34-F3E9-484A-B535-39EF61FFF7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9E1CD-E1A4-4395-B19B-272165CC7BA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89252-A4B4-446F-9299-1247F56FBA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CBF59-EE8E-4E40-8288-23EEAA0B51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BF64C-6B8F-4E57-B984-615D744EA6D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315D8-C852-4939-8164-B333BD74749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27D68-0BD0-4FAA-9037-373E175DD9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99402-0BD9-4721-BB01-EEA50CBCE27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A57AC-3A4B-4EBF-BED3-8B0165A10D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FBFE7-927A-4DA6-84A0-6AF734D3DCC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25502-0609-45AE-BA81-8DCF61C93C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B56A8-84CD-4E05-B239-D3081C3DCE3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625AE-26D9-4479-A4AC-58E1580B761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58CC2-FEB3-4880-94F7-74619B5D8A9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2DAF6-48B0-4667-8BD7-D39D0AEA671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E7C3F-DF70-4123-B242-F7506A7E797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79D1A-B4D4-42AB-9900-7E8CC6B593A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89682-31FD-4E25-9FDF-8184DC067C2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7565-5EB5-4AB8-8A75-0520ECEEF7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0449E-C3FA-43C2-A471-7C549F86F40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6987C-6942-469F-8D6D-0DA9D4AA345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57E5F-7285-493D-A40A-0B9B0021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5F59-117A-435A-9F19-05A609FE4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988-F35B-469A-8247-E6C4A79206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F27-B08A-4BDB-BEE8-A9CF0613C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825-2AB9-418B-9ACE-86F123E2CF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486-F20C-41CC-A765-F7E5C5D01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D57-EC93-4E7F-AAF0-17B17E14A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0852-B650-4FED-B0B4-5090A537B1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A75-39B8-4305-B956-9407D73C4C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70C-97E0-42E0-B7DD-378D4BDFBF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0CF-BAE0-4DEC-968A-BFCD25548C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514-7B5B-4ADA-B398-78743AE6CE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32C-C924-4EBF-82FB-723AC4EA6F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EE8-DFC9-41E0-810C-A33F860803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E75-B3EF-417C-AA0F-70CB8EA3DD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A224-9FC8-481F-81A4-8508BADB16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0B285-7D1B-48D1-B8D2-846304B1CA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19BE-441C-4D67-A8D3-411A6AAD0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810E-5AD1-40E5-99DC-4EB44FD340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DEF7-C68D-4395-A658-D3BB563D4C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D07A-2D2A-4D41-93ED-30AD2952A7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8C6C7-2EDD-4497-AD41-A063CB03F6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2A31-AE54-4E63-8914-16B386D92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458F-6E84-4533-82AE-A99F579739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A940-E1C1-4346-AD57-652C0C6633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33965-6F4F-45B2-A426-4CE8D39FA4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8DB18-B187-4669-A68A-FCE7BA4B72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7AD7-B38D-4835-803B-053E1B16F1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482EF-9F8C-4115-BA00-11D145718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8F14-5830-4D8A-9BC9-35EFC4E02A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9AC49-C5C8-42B7-A4F9-6D96427293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BDBEA-6B0A-468A-9455-8A5F5BBF0A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18B00-A976-44FB-AC0F-81B588DD26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89A52-AC7E-4D6F-A088-9C6AA225E96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DB115-0ACB-4B6A-A7AD-52B829B6E6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5EBC1-343F-4962-961A-97BBDF434F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B4C34-DDDC-4FB2-AA01-0D7F497453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0FFBB-313B-45E3-A382-DA8B50647C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5CC2C-DEC8-48AD-95A9-AB23129470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8622C-1C18-470B-B584-7CA2AC023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FE5F-D9F9-4D80-AF50-ADE3830DEA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7243A-1658-42FD-B218-1050462827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F72F6-E147-4652-9653-105355DB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EB692-2F95-415E-98F1-7D39368A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68927-68AA-48B3-AB2E-7540A9CC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F2564-E27E-4FBE-A392-15321E9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0C8EC-1E17-4817-BA5C-A27453B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82AA0-385F-414E-9C89-518B8E63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33171-B0C9-4F20-9DE7-525B0DF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88C1-5ABA-46FB-B4C6-1C6AA95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491E9-4251-4003-A64F-76ED604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A8AA-C777-498D-8505-E776287D73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3142C-4B12-4F51-92B8-75CD7810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0E376-E041-4708-A11A-F9DE8AD8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E365F-EDF5-4732-AD9C-C13DF940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21A0-B345-4856-8630-C5C12D074E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67A3-DEEB-4642-A3BE-C78FCDB48C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99DA-A53A-4101-91D4-24F8C952A1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1ED4-8A06-4DFA-94BD-BDE346FB2A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5EEB-9023-4C4F-9867-595BDBFD72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D1A9-2045-43C1-AB68-78854B1703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7FF8E-21BC-42F9-ACEC-F6BCCCD41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EEB4-E282-4158-8F72-490FEB05E3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E6576-21C1-4B6C-9988-2D1F3E5496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38D7-3BB5-478D-84D6-AFDB36046E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FF28-0CBC-4626-ADAF-E17B51EAEC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ABD1-3791-47FD-8861-6A47ED88BB3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8ACE-9A39-4238-B69E-EA90C22BD9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8E49D-9434-4A01-B26E-07822BD295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9188A-406B-4017-838E-2C993050C2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AB2E1-7D9E-48A8-A3BD-AC296A9C4F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BA5B6-BCAD-4AFB-8CBA-396B618646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9A0E6-F57C-4A5F-B86F-599DDDF36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D52-0EA1-48F6-8F62-50F644308C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5F65F-3F68-4AC7-8BF6-9DBB98D2F1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3F706-EB78-4BFD-9937-9CCDEFA164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573A0-B28A-4F59-9C45-9D03749ED74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BF515-7A79-4A7E-AF79-4120A2080F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5D01D-4C6A-47E3-8753-8C605CDFA9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96DC3-A9AF-49B1-B399-75EC96C368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52D2E-8C94-4B7C-B02B-BD271C8D7D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C0A84-598C-416C-A2FF-4CF019D352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E70C3-E8A7-43CD-B05E-3DB5BD3AD8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E90BA-1F40-420E-9849-69C5BCF9A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227640" y="6445080"/>
            <a:ext cx="116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0722F0-9B1C-4FBD-B2FF-C72BEA0F828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057400" y="6079680"/>
            <a:ext cx="373536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. Fabien Vannel, Pr. Andres Upe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ldNum" idx="18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9055D82-B3D1-47DC-9E94-82887C0D6A15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9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ldNum" idx="20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F858FAB-9012-4B64-BA13-43DC6C345DCD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ftr" idx="21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sldNum" idx="22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17F95-885B-44FF-89B9-7137FCCDB053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sldNum" idx="24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A44C-F396-484E-B0D0-228ECFC42483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ftr" idx="25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sldNum" idx="26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ECF0-616C-4847-BC8E-11217AC676A1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27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sldNum" idx="28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8623-5A3E-4D23-9DFE-41D397AA2020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29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ldNum" idx="30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5A2A-FAEE-43BC-BBCD-1EA40A5C79E4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ftr" idx="31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5904000" y="5332320"/>
            <a:ext cx="3240000" cy="15256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368280" y="5761080"/>
            <a:ext cx="161928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9CE2EF0-64B4-4311-B252-703D6B3E5A08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, Pr. Andres Upe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ldNum" idx="5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4F3F9-7D1E-43F3-82F6-8CD1CF207B4F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6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ldNum" idx="7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04A6-7DDD-46CF-BAD7-4F61D536CD12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2057040" y="6492600"/>
            <a:ext cx="2892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Pr. Fabien V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9"/>
          </p:nvPr>
        </p:nvSpPr>
        <p:spPr>
          <a:xfrm>
            <a:off x="609120" y="6245280"/>
            <a:ext cx="1978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9/11/12F. V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0"/>
          </p:nvPr>
        </p:nvSpPr>
        <p:spPr>
          <a:xfrm>
            <a:off x="2057040" y="6492600"/>
            <a:ext cx="2892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SNU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5257800" y="649260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B6B63-4C9B-49C5-BDBE-D9DCB14AE55F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ldNum" idx="12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B4A1F07-D287-4CF9-AFBF-4A31D2459D75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3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sldNum" idx="14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54EFC74-756A-4DEB-BE75-1D87222DF588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5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2"/>
          <a:stretch/>
        </p:blipFill>
        <p:spPr>
          <a:xfrm>
            <a:off x="0" y="6373800"/>
            <a:ext cx="1905120" cy="484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3"/>
          <a:stretch/>
        </p:blipFill>
        <p:spPr>
          <a:xfrm>
            <a:off x="7772400" y="6576840"/>
            <a:ext cx="968400" cy="2811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ldNum" idx="16"/>
          </p:nvPr>
        </p:nvSpPr>
        <p:spPr>
          <a:xfrm>
            <a:off x="6300720" y="6492600"/>
            <a:ext cx="13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fr-FR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B4766C0-FB63-4A35-B772-8F8A63CA0535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7"/>
          </p:nvPr>
        </p:nvSpPr>
        <p:spPr>
          <a:xfrm>
            <a:off x="2057400" y="6492600"/>
            <a:ext cx="3735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1"/>
          <p:cNvSpPr/>
          <p:nvPr/>
        </p:nvSpPr>
        <p:spPr>
          <a:xfrm>
            <a:off x="2214720" y="2071800"/>
            <a:ext cx="5929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2214720" y="3214800"/>
            <a:ext cx="5929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u temps et comp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1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6121440" cy="84582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545B36-2FED-49E6-B397-F5B884C23646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des M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52280" y="1066680"/>
            <a:ext cx="3733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70c0"/>
                </a:solidFill>
                <a:latin typeface="Arial"/>
              </a:rPr>
              <a:t>Chaque TIMER dispose de 4 registres MATCH de 32 bits chac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registres sont écrits au travers du programme avec un 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Arial"/>
              </a:rPr>
              <a:t>A chaque égalité entre le TIMER COUNTER et un de ces registres MATCH un événement est déclench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vénement peut générer une interruption et/ou une action sur une sortie numérique (forcer une sortie à 1, à 0, ou inverser l’état de la sorti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Oval 5"/>
          <p:cNvSpPr/>
          <p:nvPr/>
        </p:nvSpPr>
        <p:spPr>
          <a:xfrm>
            <a:off x="4495680" y="476280"/>
            <a:ext cx="2133720" cy="1600200"/>
          </a:xfrm>
          <a:prstGeom prst="ellipse">
            <a:avLst/>
          </a:prstGeom>
          <a:noFill/>
          <a:ln cap="sq" w="127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Oval 6"/>
          <p:cNvSpPr/>
          <p:nvPr/>
        </p:nvSpPr>
        <p:spPr>
          <a:xfrm>
            <a:off x="7238880" y="5335560"/>
            <a:ext cx="1828800" cy="685800"/>
          </a:xfrm>
          <a:prstGeom prst="ellipse">
            <a:avLst/>
          </a:prstGeom>
          <a:noFill/>
          <a:ln cap="sq"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7"/>
          <p:cNvSpPr/>
          <p:nvPr/>
        </p:nvSpPr>
        <p:spPr>
          <a:xfrm>
            <a:off x="6934320" y="3116160"/>
            <a:ext cx="2133360" cy="1752840"/>
          </a:xfrm>
          <a:prstGeom prst="ellipse">
            <a:avLst/>
          </a:prstGeom>
          <a:noFill/>
          <a:ln cap="sq"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8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5452B2-EF75-43B8-A2C6-22DC0B249A9D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2"/>
          <p:cNvSpPr/>
          <p:nvPr/>
        </p:nvSpPr>
        <p:spPr>
          <a:xfrm>
            <a:off x="8305920" y="3276720"/>
            <a:ext cx="28080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"/>
          <p:cNvSpPr/>
          <p:nvPr/>
        </p:nvSpPr>
        <p:spPr>
          <a:xfrm>
            <a:off x="7262640" y="2133720"/>
            <a:ext cx="28116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6272280" y="2614680"/>
            <a:ext cx="28080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5257800" y="3124080"/>
            <a:ext cx="281160" cy="2811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6"/>
          <p:cNvSpPr/>
          <p:nvPr/>
        </p:nvSpPr>
        <p:spPr>
          <a:xfrm>
            <a:off x="4191120" y="2004840"/>
            <a:ext cx="280800" cy="2811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des MATCH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8"/>
          <p:cNvSpPr/>
          <p:nvPr/>
        </p:nvSpPr>
        <p:spPr>
          <a:xfrm>
            <a:off x="3200400" y="2533680"/>
            <a:ext cx="28116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Group 9"/>
          <p:cNvGrpSpPr/>
          <p:nvPr/>
        </p:nvGrpSpPr>
        <p:grpSpPr>
          <a:xfrm>
            <a:off x="963720" y="1447920"/>
            <a:ext cx="7872480" cy="2387520"/>
            <a:chOff x="963720" y="1447920"/>
            <a:chExt cx="7872480" cy="2387520"/>
          </a:xfrm>
        </p:grpSpPr>
        <p:sp>
          <p:nvSpPr>
            <p:cNvPr id="756" name="Line 10"/>
            <p:cNvSpPr/>
            <p:nvPr/>
          </p:nvSpPr>
          <p:spPr>
            <a:xfrm flipV="1">
              <a:off x="1104840" y="1447920"/>
              <a:ext cx="0" cy="2387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>
              <a:off x="963720" y="369432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Text Box 12"/>
          <p:cNvSpPr/>
          <p:nvPr/>
        </p:nvSpPr>
        <p:spPr>
          <a:xfrm>
            <a:off x="609480" y="127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3"/>
          <p:cNvSpPr/>
          <p:nvPr/>
        </p:nvSpPr>
        <p:spPr>
          <a:xfrm>
            <a:off x="8839080" y="3483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14"/>
          <p:cNvSpPr/>
          <p:nvPr/>
        </p:nvSpPr>
        <p:spPr>
          <a:xfrm flipV="1">
            <a:off x="1143000" y="2053800"/>
            <a:ext cx="3375000" cy="1693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Line 15"/>
          <p:cNvSpPr/>
          <p:nvPr/>
        </p:nvSpPr>
        <p:spPr>
          <a:xfrm flipH="1">
            <a:off x="1188720" y="2128680"/>
            <a:ext cx="745956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-76320" y="1901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FFFFFF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V="1">
            <a:off x="7848720" y="3425760"/>
            <a:ext cx="561960" cy="287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V="1">
            <a:off x="4495680" y="2130120"/>
            <a:ext cx="180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 flipV="1">
            <a:off x="7848720" y="2130120"/>
            <a:ext cx="144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 flipV="1">
            <a:off x="4473720" y="2053800"/>
            <a:ext cx="3375000" cy="1693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 flipV="1">
            <a:off x="1143000" y="2130120"/>
            <a:ext cx="144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 flipV="1">
            <a:off x="685800" y="2143080"/>
            <a:ext cx="422280" cy="21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23"/>
          <p:cNvGrpSpPr/>
          <p:nvPr/>
        </p:nvGrpSpPr>
        <p:grpSpPr>
          <a:xfrm>
            <a:off x="1039680" y="4314960"/>
            <a:ext cx="7872480" cy="630000"/>
            <a:chOff x="1039680" y="4314960"/>
            <a:chExt cx="7872480" cy="630000"/>
          </a:xfrm>
        </p:grpSpPr>
        <p:sp>
          <p:nvSpPr>
            <p:cNvPr id="770" name="Line 24"/>
            <p:cNvSpPr/>
            <p:nvPr/>
          </p:nvSpPr>
          <p:spPr>
            <a:xfrm flipV="1">
              <a:off x="1179360" y="4314960"/>
              <a:ext cx="0" cy="630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25"/>
            <p:cNvSpPr/>
            <p:nvPr/>
          </p:nvSpPr>
          <p:spPr>
            <a:xfrm>
              <a:off x="1039680" y="480600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Line 26"/>
          <p:cNvSpPr/>
          <p:nvPr/>
        </p:nvSpPr>
        <p:spPr>
          <a:xfrm>
            <a:off x="3352680" y="4761000"/>
            <a:ext cx="1800" cy="187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Line 27"/>
          <p:cNvSpPr/>
          <p:nvPr/>
        </p:nvSpPr>
        <p:spPr>
          <a:xfrm flipV="1">
            <a:off x="3352680" y="2663640"/>
            <a:ext cx="1800" cy="274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28"/>
          <p:cNvSpPr/>
          <p:nvPr/>
        </p:nvSpPr>
        <p:spPr>
          <a:xfrm>
            <a:off x="1905120" y="2297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C == M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29"/>
          <p:cNvSpPr/>
          <p:nvPr/>
        </p:nvSpPr>
        <p:spPr>
          <a:xfrm>
            <a:off x="228600" y="440064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R:M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Line 30"/>
          <p:cNvSpPr/>
          <p:nvPr/>
        </p:nvSpPr>
        <p:spPr>
          <a:xfrm>
            <a:off x="2438280" y="47959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1192320" y="4795920"/>
            <a:ext cx="15462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32"/>
          <p:cNvSpPr/>
          <p:nvPr/>
        </p:nvSpPr>
        <p:spPr>
          <a:xfrm flipV="1">
            <a:off x="3352680" y="4479480"/>
            <a:ext cx="180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33"/>
          <p:cNvSpPr/>
          <p:nvPr/>
        </p:nvSpPr>
        <p:spPr>
          <a:xfrm>
            <a:off x="3352680" y="4414680"/>
            <a:ext cx="381240" cy="5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Group 34"/>
          <p:cNvGrpSpPr/>
          <p:nvPr/>
        </p:nvGrpSpPr>
        <p:grpSpPr>
          <a:xfrm>
            <a:off x="1065240" y="5457960"/>
            <a:ext cx="7872480" cy="630000"/>
            <a:chOff x="1065240" y="5457960"/>
            <a:chExt cx="7872480" cy="630000"/>
          </a:xfrm>
        </p:grpSpPr>
        <p:sp>
          <p:nvSpPr>
            <p:cNvPr id="781" name="Line 35"/>
            <p:cNvSpPr/>
            <p:nvPr/>
          </p:nvSpPr>
          <p:spPr>
            <a:xfrm flipV="1">
              <a:off x="1204920" y="5457960"/>
              <a:ext cx="0" cy="630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Line 36"/>
            <p:cNvSpPr/>
            <p:nvPr/>
          </p:nvSpPr>
          <p:spPr>
            <a:xfrm>
              <a:off x="1065240" y="594900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Line 37"/>
          <p:cNvSpPr/>
          <p:nvPr/>
        </p:nvSpPr>
        <p:spPr>
          <a:xfrm>
            <a:off x="3352680" y="5904000"/>
            <a:ext cx="1800" cy="187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38"/>
          <p:cNvSpPr/>
          <p:nvPr/>
        </p:nvSpPr>
        <p:spPr>
          <a:xfrm>
            <a:off x="2438280" y="59389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Line 39"/>
          <p:cNvSpPr/>
          <p:nvPr/>
        </p:nvSpPr>
        <p:spPr>
          <a:xfrm>
            <a:off x="1217520" y="5938920"/>
            <a:ext cx="15462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40"/>
          <p:cNvSpPr/>
          <p:nvPr/>
        </p:nvSpPr>
        <p:spPr>
          <a:xfrm flipV="1">
            <a:off x="3352680" y="5622480"/>
            <a:ext cx="180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Line 41"/>
          <p:cNvSpPr/>
          <p:nvPr/>
        </p:nvSpPr>
        <p:spPr>
          <a:xfrm>
            <a:off x="3352680" y="5562720"/>
            <a:ext cx="9907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42"/>
          <p:cNvSpPr/>
          <p:nvPr/>
        </p:nvSpPr>
        <p:spPr>
          <a:xfrm flipV="1">
            <a:off x="4343400" y="5559480"/>
            <a:ext cx="1440" cy="387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43"/>
          <p:cNvSpPr/>
          <p:nvPr/>
        </p:nvSpPr>
        <p:spPr>
          <a:xfrm>
            <a:off x="3276720" y="601992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Effet externe sur MATx, définit selon EMR (par exemple : TOGGLE p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44"/>
          <p:cNvSpPr/>
          <p:nvPr/>
        </p:nvSpPr>
        <p:spPr>
          <a:xfrm>
            <a:off x="366840" y="54100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o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A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45"/>
          <p:cNvSpPr/>
          <p:nvPr/>
        </p:nvSpPr>
        <p:spPr>
          <a:xfrm>
            <a:off x="-76320" y="350208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0000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48" descr=""/>
          <p:cNvPicPr/>
          <p:nvPr/>
        </p:nvPicPr>
        <p:blipFill>
          <a:blip r:embed="rId1"/>
          <a:stretch/>
        </p:blipFill>
        <p:spPr>
          <a:xfrm>
            <a:off x="1212840" y="835200"/>
            <a:ext cx="7931160" cy="834840"/>
          </a:xfrm>
          <a:prstGeom prst="rect">
            <a:avLst/>
          </a:prstGeom>
          <a:ln w="0">
            <a:noFill/>
          </a:ln>
        </p:spPr>
      </p:pic>
      <p:sp>
        <p:nvSpPr>
          <p:cNvPr id="793" name="Line 49"/>
          <p:cNvSpPr/>
          <p:nvPr/>
        </p:nvSpPr>
        <p:spPr>
          <a:xfrm flipV="1">
            <a:off x="4343400" y="1901880"/>
            <a:ext cx="1440" cy="3587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50"/>
          <p:cNvSpPr/>
          <p:nvPr/>
        </p:nvSpPr>
        <p:spPr>
          <a:xfrm flipH="1" flipV="1">
            <a:off x="5330880" y="2538360"/>
            <a:ext cx="22320" cy="2951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V="1">
            <a:off x="6400800" y="2511360"/>
            <a:ext cx="15840" cy="305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 flipV="1">
            <a:off x="7467480" y="2130120"/>
            <a:ext cx="1800" cy="3359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V="1">
            <a:off x="8458200" y="2587320"/>
            <a:ext cx="1440" cy="2901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Line 54"/>
          <p:cNvSpPr/>
          <p:nvPr/>
        </p:nvSpPr>
        <p:spPr>
          <a:xfrm flipV="1">
            <a:off x="373392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5"/>
          <p:cNvSpPr/>
          <p:nvPr/>
        </p:nvSpPr>
        <p:spPr>
          <a:xfrm>
            <a:off x="3733920" y="4800600"/>
            <a:ext cx="6094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56"/>
          <p:cNvSpPr/>
          <p:nvPr/>
        </p:nvSpPr>
        <p:spPr>
          <a:xfrm flipV="1">
            <a:off x="434340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Line 57"/>
          <p:cNvSpPr/>
          <p:nvPr/>
        </p:nvSpPr>
        <p:spPr>
          <a:xfrm>
            <a:off x="4343400" y="4419720"/>
            <a:ext cx="380880" cy="4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58"/>
          <p:cNvSpPr/>
          <p:nvPr/>
        </p:nvSpPr>
        <p:spPr>
          <a:xfrm flipV="1">
            <a:off x="4724280" y="449748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59"/>
          <p:cNvSpPr/>
          <p:nvPr/>
        </p:nvSpPr>
        <p:spPr>
          <a:xfrm>
            <a:off x="4724280" y="4800600"/>
            <a:ext cx="60984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60"/>
          <p:cNvSpPr/>
          <p:nvPr/>
        </p:nvSpPr>
        <p:spPr>
          <a:xfrm flipV="1">
            <a:off x="533412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61"/>
          <p:cNvSpPr/>
          <p:nvPr/>
        </p:nvSpPr>
        <p:spPr>
          <a:xfrm>
            <a:off x="5334120" y="4419720"/>
            <a:ext cx="380880" cy="4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62"/>
          <p:cNvSpPr/>
          <p:nvPr/>
        </p:nvSpPr>
        <p:spPr>
          <a:xfrm flipV="1">
            <a:off x="5715000" y="449748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63"/>
          <p:cNvSpPr/>
          <p:nvPr/>
        </p:nvSpPr>
        <p:spPr>
          <a:xfrm>
            <a:off x="5791320" y="4800600"/>
            <a:ext cx="6094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64"/>
          <p:cNvSpPr/>
          <p:nvPr/>
        </p:nvSpPr>
        <p:spPr>
          <a:xfrm flipV="1">
            <a:off x="640080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65"/>
          <p:cNvSpPr/>
          <p:nvPr/>
        </p:nvSpPr>
        <p:spPr>
          <a:xfrm>
            <a:off x="6400800" y="4419720"/>
            <a:ext cx="380880" cy="4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66"/>
          <p:cNvSpPr/>
          <p:nvPr/>
        </p:nvSpPr>
        <p:spPr>
          <a:xfrm flipV="1">
            <a:off x="6781680" y="449748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67"/>
          <p:cNvSpPr/>
          <p:nvPr/>
        </p:nvSpPr>
        <p:spPr>
          <a:xfrm>
            <a:off x="6858000" y="4800600"/>
            <a:ext cx="6094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Line 68"/>
          <p:cNvSpPr/>
          <p:nvPr/>
        </p:nvSpPr>
        <p:spPr>
          <a:xfrm flipV="1">
            <a:off x="7467480" y="449280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Line 69"/>
          <p:cNvSpPr/>
          <p:nvPr/>
        </p:nvSpPr>
        <p:spPr>
          <a:xfrm>
            <a:off x="7467480" y="4419720"/>
            <a:ext cx="381240" cy="4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Line 70"/>
          <p:cNvSpPr/>
          <p:nvPr/>
        </p:nvSpPr>
        <p:spPr>
          <a:xfrm flipV="1">
            <a:off x="7848720" y="449748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Line 71"/>
          <p:cNvSpPr/>
          <p:nvPr/>
        </p:nvSpPr>
        <p:spPr>
          <a:xfrm>
            <a:off x="7848720" y="4800600"/>
            <a:ext cx="6094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72"/>
          <p:cNvSpPr/>
          <p:nvPr/>
        </p:nvSpPr>
        <p:spPr>
          <a:xfrm flipV="1">
            <a:off x="845820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73"/>
          <p:cNvSpPr/>
          <p:nvPr/>
        </p:nvSpPr>
        <p:spPr>
          <a:xfrm>
            <a:off x="8458200" y="4419720"/>
            <a:ext cx="380880" cy="4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74"/>
          <p:cNvSpPr/>
          <p:nvPr/>
        </p:nvSpPr>
        <p:spPr>
          <a:xfrm flipV="1">
            <a:off x="8839080" y="449748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ine 75"/>
          <p:cNvSpPr/>
          <p:nvPr/>
        </p:nvSpPr>
        <p:spPr>
          <a:xfrm>
            <a:off x="4419720" y="59389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Line 76"/>
          <p:cNvSpPr/>
          <p:nvPr/>
        </p:nvSpPr>
        <p:spPr>
          <a:xfrm flipV="1">
            <a:off x="5334120" y="5622480"/>
            <a:ext cx="144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77"/>
          <p:cNvSpPr/>
          <p:nvPr/>
        </p:nvSpPr>
        <p:spPr>
          <a:xfrm>
            <a:off x="5334120" y="5562720"/>
            <a:ext cx="99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78"/>
          <p:cNvSpPr/>
          <p:nvPr/>
        </p:nvSpPr>
        <p:spPr>
          <a:xfrm flipV="1">
            <a:off x="6400800" y="5559480"/>
            <a:ext cx="1440" cy="387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79"/>
          <p:cNvSpPr/>
          <p:nvPr/>
        </p:nvSpPr>
        <p:spPr>
          <a:xfrm flipV="1">
            <a:off x="6400800" y="5935320"/>
            <a:ext cx="1066680" cy="111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80"/>
          <p:cNvSpPr/>
          <p:nvPr/>
        </p:nvSpPr>
        <p:spPr>
          <a:xfrm flipV="1">
            <a:off x="7467480" y="5622480"/>
            <a:ext cx="180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81"/>
          <p:cNvSpPr/>
          <p:nvPr/>
        </p:nvSpPr>
        <p:spPr>
          <a:xfrm>
            <a:off x="7467480" y="5562720"/>
            <a:ext cx="9907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82"/>
          <p:cNvSpPr/>
          <p:nvPr/>
        </p:nvSpPr>
        <p:spPr>
          <a:xfrm flipV="1">
            <a:off x="8458200" y="5559480"/>
            <a:ext cx="1440" cy="387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83"/>
          <p:cNvSpPr/>
          <p:nvPr/>
        </p:nvSpPr>
        <p:spPr>
          <a:xfrm>
            <a:off x="8458200" y="5943600"/>
            <a:ext cx="3049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8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243A63-4989-41B6-883C-24724EA162AA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des MATCH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3"/>
          <p:cNvSpPr/>
          <p:nvPr/>
        </p:nvSpPr>
        <p:spPr>
          <a:xfrm>
            <a:off x="3200400" y="2533680"/>
            <a:ext cx="28116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4"/>
          <p:cNvGrpSpPr/>
          <p:nvPr/>
        </p:nvGrpSpPr>
        <p:grpSpPr>
          <a:xfrm>
            <a:off x="963720" y="1447920"/>
            <a:ext cx="7872480" cy="2387520"/>
            <a:chOff x="963720" y="1447920"/>
            <a:chExt cx="7872480" cy="2387520"/>
          </a:xfrm>
        </p:grpSpPr>
        <p:sp>
          <p:nvSpPr>
            <p:cNvPr id="833" name="Line 5"/>
            <p:cNvSpPr/>
            <p:nvPr/>
          </p:nvSpPr>
          <p:spPr>
            <a:xfrm flipV="1">
              <a:off x="1104840" y="1447920"/>
              <a:ext cx="0" cy="2387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6"/>
            <p:cNvSpPr/>
            <p:nvPr/>
          </p:nvSpPr>
          <p:spPr>
            <a:xfrm>
              <a:off x="963720" y="369432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Text Box 7"/>
          <p:cNvSpPr/>
          <p:nvPr/>
        </p:nvSpPr>
        <p:spPr>
          <a:xfrm>
            <a:off x="609480" y="127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8839080" y="3483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Line 9"/>
          <p:cNvSpPr/>
          <p:nvPr/>
        </p:nvSpPr>
        <p:spPr>
          <a:xfrm flipV="1">
            <a:off x="1143000" y="2663640"/>
            <a:ext cx="2211480" cy="1083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Line 10"/>
          <p:cNvSpPr/>
          <p:nvPr/>
        </p:nvSpPr>
        <p:spPr>
          <a:xfrm flipH="1">
            <a:off x="1188720" y="2128680"/>
            <a:ext cx="745956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-76320" y="1901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FFFFFF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ine 12"/>
          <p:cNvSpPr/>
          <p:nvPr/>
        </p:nvSpPr>
        <p:spPr>
          <a:xfrm flipV="1">
            <a:off x="7726320" y="3436920"/>
            <a:ext cx="561960" cy="287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Line 13"/>
          <p:cNvSpPr/>
          <p:nvPr/>
        </p:nvSpPr>
        <p:spPr>
          <a:xfrm flipV="1">
            <a:off x="3355920" y="2660760"/>
            <a:ext cx="1800" cy="10382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4"/>
          <p:cNvSpPr/>
          <p:nvPr/>
        </p:nvSpPr>
        <p:spPr>
          <a:xfrm flipV="1">
            <a:off x="1143000" y="2130120"/>
            <a:ext cx="144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5"/>
          <p:cNvSpPr/>
          <p:nvPr/>
        </p:nvSpPr>
        <p:spPr>
          <a:xfrm flipV="1">
            <a:off x="685800" y="2143080"/>
            <a:ext cx="422280" cy="21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16"/>
          <p:cNvGrpSpPr/>
          <p:nvPr/>
        </p:nvGrpSpPr>
        <p:grpSpPr>
          <a:xfrm>
            <a:off x="1039680" y="4314960"/>
            <a:ext cx="7872480" cy="630000"/>
            <a:chOff x="1039680" y="4314960"/>
            <a:chExt cx="7872480" cy="630000"/>
          </a:xfrm>
        </p:grpSpPr>
        <p:sp>
          <p:nvSpPr>
            <p:cNvPr id="845" name="Line 17"/>
            <p:cNvSpPr/>
            <p:nvPr/>
          </p:nvSpPr>
          <p:spPr>
            <a:xfrm flipV="1">
              <a:off x="1179360" y="4314960"/>
              <a:ext cx="0" cy="630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18"/>
            <p:cNvSpPr/>
            <p:nvPr/>
          </p:nvSpPr>
          <p:spPr>
            <a:xfrm>
              <a:off x="1039680" y="480600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Line 19"/>
          <p:cNvSpPr/>
          <p:nvPr/>
        </p:nvSpPr>
        <p:spPr>
          <a:xfrm>
            <a:off x="3352680" y="4761000"/>
            <a:ext cx="1800" cy="187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20"/>
          <p:cNvSpPr/>
          <p:nvPr/>
        </p:nvSpPr>
        <p:spPr>
          <a:xfrm flipV="1">
            <a:off x="3352680" y="2664000"/>
            <a:ext cx="1800" cy="188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21"/>
          <p:cNvSpPr/>
          <p:nvPr/>
        </p:nvSpPr>
        <p:spPr>
          <a:xfrm flipH="1">
            <a:off x="1188720" y="2662200"/>
            <a:ext cx="74595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2"/>
          <p:cNvSpPr/>
          <p:nvPr/>
        </p:nvSpPr>
        <p:spPr>
          <a:xfrm>
            <a:off x="0" y="274320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R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23"/>
          <p:cNvSpPr/>
          <p:nvPr/>
        </p:nvSpPr>
        <p:spPr>
          <a:xfrm>
            <a:off x="1905120" y="2297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C == M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24"/>
          <p:cNvSpPr/>
          <p:nvPr/>
        </p:nvSpPr>
        <p:spPr>
          <a:xfrm>
            <a:off x="228600" y="440064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R:M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Line 25"/>
          <p:cNvSpPr/>
          <p:nvPr/>
        </p:nvSpPr>
        <p:spPr>
          <a:xfrm>
            <a:off x="2438280" y="47959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26"/>
          <p:cNvSpPr/>
          <p:nvPr/>
        </p:nvSpPr>
        <p:spPr>
          <a:xfrm>
            <a:off x="1192320" y="4795920"/>
            <a:ext cx="15462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27"/>
          <p:cNvSpPr/>
          <p:nvPr/>
        </p:nvSpPr>
        <p:spPr>
          <a:xfrm flipV="1">
            <a:off x="3352680" y="4479480"/>
            <a:ext cx="180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28"/>
          <p:cNvSpPr/>
          <p:nvPr/>
        </p:nvSpPr>
        <p:spPr>
          <a:xfrm>
            <a:off x="3352680" y="4414680"/>
            <a:ext cx="42228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ine 29"/>
          <p:cNvSpPr/>
          <p:nvPr/>
        </p:nvSpPr>
        <p:spPr>
          <a:xfrm>
            <a:off x="3809880" y="4795920"/>
            <a:ext cx="288288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30"/>
          <p:cNvSpPr/>
          <p:nvPr/>
        </p:nvSpPr>
        <p:spPr>
          <a:xfrm>
            <a:off x="4649760" y="48085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31"/>
          <p:cNvSpPr/>
          <p:nvPr/>
        </p:nvSpPr>
        <p:spPr>
          <a:xfrm flipV="1">
            <a:off x="5564160" y="449280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32"/>
          <p:cNvSpPr/>
          <p:nvPr/>
        </p:nvSpPr>
        <p:spPr>
          <a:xfrm>
            <a:off x="5564160" y="442764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33"/>
          <p:cNvSpPr/>
          <p:nvPr/>
        </p:nvSpPr>
        <p:spPr>
          <a:xfrm flipV="1">
            <a:off x="3809880" y="4479480"/>
            <a:ext cx="1800" cy="3193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34"/>
          <p:cNvSpPr/>
          <p:nvPr/>
        </p:nvSpPr>
        <p:spPr>
          <a:xfrm flipV="1">
            <a:off x="5994360" y="4425840"/>
            <a:ext cx="1800" cy="317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35"/>
          <p:cNvSpPr/>
          <p:nvPr/>
        </p:nvSpPr>
        <p:spPr>
          <a:xfrm>
            <a:off x="7010280" y="4795920"/>
            <a:ext cx="12654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4" name="Group 36"/>
          <p:cNvGrpSpPr/>
          <p:nvPr/>
        </p:nvGrpSpPr>
        <p:grpSpPr>
          <a:xfrm>
            <a:off x="1065240" y="5457960"/>
            <a:ext cx="7872480" cy="630000"/>
            <a:chOff x="1065240" y="5457960"/>
            <a:chExt cx="7872480" cy="630000"/>
          </a:xfrm>
        </p:grpSpPr>
        <p:sp>
          <p:nvSpPr>
            <p:cNvPr id="865" name="Line 37"/>
            <p:cNvSpPr/>
            <p:nvPr/>
          </p:nvSpPr>
          <p:spPr>
            <a:xfrm flipV="1">
              <a:off x="1204920" y="5457960"/>
              <a:ext cx="0" cy="630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8"/>
            <p:cNvSpPr/>
            <p:nvPr/>
          </p:nvSpPr>
          <p:spPr>
            <a:xfrm>
              <a:off x="1065240" y="594900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Line 39"/>
          <p:cNvSpPr/>
          <p:nvPr/>
        </p:nvSpPr>
        <p:spPr>
          <a:xfrm>
            <a:off x="3352680" y="5904000"/>
            <a:ext cx="1800" cy="187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Line 40"/>
          <p:cNvSpPr/>
          <p:nvPr/>
        </p:nvSpPr>
        <p:spPr>
          <a:xfrm>
            <a:off x="2438280" y="5938920"/>
            <a:ext cx="91440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41"/>
          <p:cNvSpPr/>
          <p:nvPr/>
        </p:nvSpPr>
        <p:spPr>
          <a:xfrm>
            <a:off x="1217520" y="5938920"/>
            <a:ext cx="15462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42"/>
          <p:cNvSpPr/>
          <p:nvPr/>
        </p:nvSpPr>
        <p:spPr>
          <a:xfrm flipV="1">
            <a:off x="3352680" y="5622480"/>
            <a:ext cx="180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43"/>
          <p:cNvSpPr/>
          <p:nvPr/>
        </p:nvSpPr>
        <p:spPr>
          <a:xfrm>
            <a:off x="3355920" y="5573880"/>
            <a:ext cx="2131920" cy="28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44"/>
          <p:cNvSpPr/>
          <p:nvPr/>
        </p:nvSpPr>
        <p:spPr>
          <a:xfrm flipV="1">
            <a:off x="5564160" y="557208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Line 45"/>
          <p:cNvSpPr/>
          <p:nvPr/>
        </p:nvSpPr>
        <p:spPr>
          <a:xfrm>
            <a:off x="7086600" y="5938920"/>
            <a:ext cx="12654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3276720" y="601992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Effet externe sur MATx, définit selon EMR (par exemple : TOGGLE p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47"/>
          <p:cNvSpPr/>
          <p:nvPr/>
        </p:nvSpPr>
        <p:spPr>
          <a:xfrm>
            <a:off x="366840" y="54100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o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A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48"/>
          <p:cNvSpPr/>
          <p:nvPr/>
        </p:nvSpPr>
        <p:spPr>
          <a:xfrm>
            <a:off x="-76320" y="350208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0000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51"/>
          <p:cNvSpPr/>
          <p:nvPr/>
        </p:nvSpPr>
        <p:spPr>
          <a:xfrm>
            <a:off x="1371600" y="64440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Egalité TIMER avec MRx → </a:t>
            </a: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reset timer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+ interruption + action exte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Oval 52"/>
          <p:cNvSpPr/>
          <p:nvPr/>
        </p:nvSpPr>
        <p:spPr>
          <a:xfrm>
            <a:off x="5410080" y="2509920"/>
            <a:ext cx="281160" cy="2826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ine 53"/>
          <p:cNvSpPr/>
          <p:nvPr/>
        </p:nvSpPr>
        <p:spPr>
          <a:xfrm flipV="1">
            <a:off x="3352680" y="2639880"/>
            <a:ext cx="2211480" cy="1084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ine 54"/>
          <p:cNvSpPr/>
          <p:nvPr/>
        </p:nvSpPr>
        <p:spPr>
          <a:xfrm flipV="1">
            <a:off x="5562720" y="2641680"/>
            <a:ext cx="1440" cy="1882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Line 55"/>
          <p:cNvSpPr/>
          <p:nvPr/>
        </p:nvSpPr>
        <p:spPr>
          <a:xfrm>
            <a:off x="7740720" y="442764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Oval 56"/>
          <p:cNvSpPr/>
          <p:nvPr/>
        </p:nvSpPr>
        <p:spPr>
          <a:xfrm>
            <a:off x="7586640" y="2509920"/>
            <a:ext cx="281160" cy="2826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57"/>
          <p:cNvSpPr/>
          <p:nvPr/>
        </p:nvSpPr>
        <p:spPr>
          <a:xfrm flipV="1">
            <a:off x="5529240" y="2639880"/>
            <a:ext cx="2211480" cy="1084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58"/>
          <p:cNvSpPr/>
          <p:nvPr/>
        </p:nvSpPr>
        <p:spPr>
          <a:xfrm flipV="1">
            <a:off x="7738920" y="2641680"/>
            <a:ext cx="1800" cy="1882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59"/>
          <p:cNvSpPr/>
          <p:nvPr/>
        </p:nvSpPr>
        <p:spPr>
          <a:xfrm flipV="1">
            <a:off x="7750080" y="445932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60"/>
          <p:cNvSpPr/>
          <p:nvPr/>
        </p:nvSpPr>
        <p:spPr>
          <a:xfrm>
            <a:off x="6805440" y="4797360"/>
            <a:ext cx="9144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61"/>
          <p:cNvSpPr/>
          <p:nvPr/>
        </p:nvSpPr>
        <p:spPr>
          <a:xfrm flipV="1">
            <a:off x="8163000" y="4401720"/>
            <a:ext cx="1440" cy="3193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Line 62"/>
          <p:cNvSpPr/>
          <p:nvPr/>
        </p:nvSpPr>
        <p:spPr>
          <a:xfrm flipV="1">
            <a:off x="5549760" y="5938560"/>
            <a:ext cx="2222640" cy="126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63"/>
          <p:cNvSpPr/>
          <p:nvPr/>
        </p:nvSpPr>
        <p:spPr>
          <a:xfrm flipV="1">
            <a:off x="7772400" y="5622480"/>
            <a:ext cx="1440" cy="319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64"/>
          <p:cNvSpPr/>
          <p:nvPr/>
        </p:nvSpPr>
        <p:spPr>
          <a:xfrm>
            <a:off x="7743960" y="557388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Line 65"/>
          <p:cNvSpPr/>
          <p:nvPr/>
        </p:nvSpPr>
        <p:spPr>
          <a:xfrm>
            <a:off x="8201160" y="5573880"/>
            <a:ext cx="4460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66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AAE0B8-EF54-44B5-8EE0-1E8C69FDE3CA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TCH périod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152280" y="765000"/>
            <a:ext cx="87631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vénement MATCH périodique permet d’interrompre le processeur à un rythme précis. Par exemple le TIMER peut générer une interruption toute les secondes. Ceci permettrait tout simplement de réaliser une horlo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e configuration (non optimal) permettant d’avoir une interruption toute les seconde avec une base de temps de 1 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s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cl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20 MHz.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CLK = os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cl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 4 = 5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CALER = 5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loge du compteur du TIMER = PCLK / PRESCALER = 1000 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qui donne la base de temps = 1/1000 = 1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avoir une interruption toute les 1 seconde, il faut donc compter jusqu’à 1000 dans la routine d’interruption du tim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l’initialisation MRx = 1000, puis à chaque interruption MRx = MRx + 1000 (ou alors imposer le reset du compte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E12FBD-7B9B-4673-A018-864C55AC7DF8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générale du MATCH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152280" y="765000"/>
            <a:ext cx="87631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’exemple précédent, on pourrait aussi choisir une base de temps de 1 s directement en imposant PRESCALER = 5’000’000 pour obtenir un événement périod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ntérêt d’avoir une base de temps d’une durée inférieure (par exemple 1 ms), est de pouvoir définir des événements futurs mais non périodiques, com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tir le processeur d’un événement après 1 seco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is 20 ms plus tard d’un autre évén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is 75 ms d’un autre en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1" descr=""/>
          <p:cNvPicPr/>
          <p:nvPr/>
        </p:nvPicPr>
        <p:blipFill>
          <a:blip r:embed="rId1"/>
          <a:srcRect l="-1763" t="32640" r="1774" b="17543"/>
          <a:stretch/>
        </p:blipFill>
        <p:spPr>
          <a:xfrm>
            <a:off x="3780000" y="1380960"/>
            <a:ext cx="5905440" cy="406584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2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CF4129-7F3F-4D3B-A9C7-F9852E15C823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3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des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152280" y="1066680"/>
            <a:ext cx="3733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642d"/>
                </a:solidFill>
                <a:latin typeface="Arial"/>
              </a:rPr>
              <a:t>Chaque TIMER dispose de 2 registres CAPTURE de 32 bits chac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ès qu’un événement externe survient, la machine d’état du CONTRÔLE effectue une copie automatique du TIMER Counter dans le registre de CAPTURE correspond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vénement externe peut être une transition d’état sur une entrée numérique. Ceci peut également déclencher une interru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5"/>
          <p:cNvSpPr/>
          <p:nvPr/>
        </p:nvSpPr>
        <p:spPr>
          <a:xfrm>
            <a:off x="4267080" y="2141640"/>
            <a:ext cx="2133720" cy="1143000"/>
          </a:xfrm>
          <a:prstGeom prst="ellipse">
            <a:avLst/>
          </a:prstGeom>
          <a:noFill/>
          <a:ln cap="sq"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6"/>
          <p:cNvSpPr/>
          <p:nvPr/>
        </p:nvSpPr>
        <p:spPr>
          <a:xfrm>
            <a:off x="7315200" y="3581280"/>
            <a:ext cx="1828800" cy="685800"/>
          </a:xfrm>
          <a:prstGeom prst="ellipse">
            <a:avLst/>
          </a:prstGeom>
          <a:noFill/>
          <a:ln cap="sq"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Oval 7"/>
          <p:cNvSpPr/>
          <p:nvPr/>
        </p:nvSpPr>
        <p:spPr>
          <a:xfrm>
            <a:off x="4800600" y="3352680"/>
            <a:ext cx="2133720" cy="1752840"/>
          </a:xfrm>
          <a:prstGeom prst="ellipse">
            <a:avLst/>
          </a:prstGeom>
          <a:noFill/>
          <a:ln cap="sq"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17F2C6-EA88-4D0C-8C6C-D13EB996D14D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Oval 2"/>
          <p:cNvSpPr/>
          <p:nvPr/>
        </p:nvSpPr>
        <p:spPr>
          <a:xfrm>
            <a:off x="5486400" y="3962520"/>
            <a:ext cx="28116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ation des CAPTURE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Oval 4"/>
          <p:cNvSpPr/>
          <p:nvPr/>
        </p:nvSpPr>
        <p:spPr>
          <a:xfrm>
            <a:off x="3276720" y="3448080"/>
            <a:ext cx="280800" cy="28080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5"/>
          <p:cNvGrpSpPr/>
          <p:nvPr/>
        </p:nvGrpSpPr>
        <p:grpSpPr>
          <a:xfrm>
            <a:off x="1039680" y="2362320"/>
            <a:ext cx="7872480" cy="2387520"/>
            <a:chOff x="1039680" y="2362320"/>
            <a:chExt cx="7872480" cy="2387520"/>
          </a:xfrm>
        </p:grpSpPr>
        <p:sp>
          <p:nvSpPr>
            <p:cNvPr id="914" name="Line 6"/>
            <p:cNvSpPr/>
            <p:nvPr/>
          </p:nvSpPr>
          <p:spPr>
            <a:xfrm flipV="1">
              <a:off x="1179360" y="2362320"/>
              <a:ext cx="0" cy="2387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7"/>
            <p:cNvSpPr/>
            <p:nvPr/>
          </p:nvSpPr>
          <p:spPr>
            <a:xfrm>
              <a:off x="1039680" y="460872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Text Box 8"/>
          <p:cNvSpPr/>
          <p:nvPr/>
        </p:nvSpPr>
        <p:spPr>
          <a:xfrm>
            <a:off x="685800" y="2190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908920" y="43974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 flipV="1">
            <a:off x="1219320" y="2968200"/>
            <a:ext cx="3375000" cy="1693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Line 11"/>
          <p:cNvSpPr/>
          <p:nvPr/>
        </p:nvSpPr>
        <p:spPr>
          <a:xfrm flipH="1">
            <a:off x="1265040" y="3043080"/>
            <a:ext cx="745956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-76320" y="2816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FFFFFF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13"/>
          <p:cNvSpPr/>
          <p:nvPr/>
        </p:nvSpPr>
        <p:spPr>
          <a:xfrm flipV="1">
            <a:off x="7924680" y="4340160"/>
            <a:ext cx="561960" cy="287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 flipV="1">
            <a:off x="4572000" y="3044520"/>
            <a:ext cx="144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 flipV="1">
            <a:off x="7924680" y="3044520"/>
            <a:ext cx="180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ine 16"/>
          <p:cNvSpPr/>
          <p:nvPr/>
        </p:nvSpPr>
        <p:spPr>
          <a:xfrm flipV="1">
            <a:off x="4549680" y="2968200"/>
            <a:ext cx="3375000" cy="1693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Line 17"/>
          <p:cNvSpPr/>
          <p:nvPr/>
        </p:nvSpPr>
        <p:spPr>
          <a:xfrm flipV="1">
            <a:off x="1219320" y="3044520"/>
            <a:ext cx="1440" cy="150948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762120" y="3057480"/>
            <a:ext cx="422280" cy="21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7" name="Group 19"/>
          <p:cNvGrpSpPr/>
          <p:nvPr/>
        </p:nvGrpSpPr>
        <p:grpSpPr>
          <a:xfrm>
            <a:off x="1039680" y="5181120"/>
            <a:ext cx="7872480" cy="630360"/>
            <a:chOff x="1039680" y="5181120"/>
            <a:chExt cx="7872480" cy="630360"/>
          </a:xfrm>
        </p:grpSpPr>
        <p:sp>
          <p:nvSpPr>
            <p:cNvPr id="928" name="Line 20"/>
            <p:cNvSpPr/>
            <p:nvPr/>
          </p:nvSpPr>
          <p:spPr>
            <a:xfrm flipV="1">
              <a:off x="1179360" y="5181120"/>
              <a:ext cx="0" cy="630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1"/>
            <p:cNvSpPr/>
            <p:nvPr/>
          </p:nvSpPr>
          <p:spPr>
            <a:xfrm>
              <a:off x="1039680" y="567108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22"/>
          <p:cNvSpPr/>
          <p:nvPr/>
        </p:nvSpPr>
        <p:spPr>
          <a:xfrm flipV="1">
            <a:off x="3429000" y="2282400"/>
            <a:ext cx="1440" cy="3179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23"/>
          <p:cNvSpPr/>
          <p:nvPr/>
        </p:nvSpPr>
        <p:spPr>
          <a:xfrm flipH="1">
            <a:off x="1265040" y="3576600"/>
            <a:ext cx="74595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666880" y="38210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Rx = 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228600" y="52671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R:C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Line 26"/>
          <p:cNvSpPr/>
          <p:nvPr/>
        </p:nvSpPr>
        <p:spPr>
          <a:xfrm>
            <a:off x="1268280" y="5646600"/>
            <a:ext cx="154620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Line 27"/>
          <p:cNvSpPr/>
          <p:nvPr/>
        </p:nvSpPr>
        <p:spPr>
          <a:xfrm flipV="1">
            <a:off x="3429000" y="533088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28"/>
          <p:cNvSpPr/>
          <p:nvPr/>
        </p:nvSpPr>
        <p:spPr>
          <a:xfrm>
            <a:off x="3429000" y="526572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Line 29"/>
          <p:cNvSpPr/>
          <p:nvPr/>
        </p:nvSpPr>
        <p:spPr>
          <a:xfrm>
            <a:off x="3886200" y="5270400"/>
            <a:ext cx="154620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30"/>
          <p:cNvSpPr/>
          <p:nvPr/>
        </p:nvSpPr>
        <p:spPr>
          <a:xfrm flipV="1">
            <a:off x="5638680" y="2511000"/>
            <a:ext cx="1800" cy="2722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31"/>
          <p:cNvSpPr/>
          <p:nvPr/>
        </p:nvSpPr>
        <p:spPr>
          <a:xfrm flipV="1">
            <a:off x="5638680" y="533088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Line 32"/>
          <p:cNvSpPr/>
          <p:nvPr/>
        </p:nvSpPr>
        <p:spPr>
          <a:xfrm>
            <a:off x="5638680" y="526572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33"/>
          <p:cNvSpPr/>
          <p:nvPr/>
        </p:nvSpPr>
        <p:spPr>
          <a:xfrm>
            <a:off x="6019920" y="5265720"/>
            <a:ext cx="9144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34"/>
          <p:cNvSpPr/>
          <p:nvPr/>
        </p:nvSpPr>
        <p:spPr>
          <a:xfrm flipV="1">
            <a:off x="3886200" y="5330880"/>
            <a:ext cx="1440" cy="318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35"/>
          <p:cNvSpPr/>
          <p:nvPr/>
        </p:nvSpPr>
        <p:spPr>
          <a:xfrm flipV="1">
            <a:off x="6019920" y="5330880"/>
            <a:ext cx="1440" cy="318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Group 36"/>
          <p:cNvGrpSpPr/>
          <p:nvPr/>
        </p:nvGrpSpPr>
        <p:grpSpPr>
          <a:xfrm>
            <a:off x="1039680" y="1495080"/>
            <a:ext cx="7872480" cy="630360"/>
            <a:chOff x="1039680" y="1495080"/>
            <a:chExt cx="7872480" cy="630360"/>
          </a:xfrm>
        </p:grpSpPr>
        <p:sp>
          <p:nvSpPr>
            <p:cNvPr id="945" name="Line 37"/>
            <p:cNvSpPr/>
            <p:nvPr/>
          </p:nvSpPr>
          <p:spPr>
            <a:xfrm flipV="1">
              <a:off x="1179360" y="1495080"/>
              <a:ext cx="0" cy="630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38"/>
            <p:cNvSpPr/>
            <p:nvPr/>
          </p:nvSpPr>
          <p:spPr>
            <a:xfrm>
              <a:off x="1039680" y="1985040"/>
              <a:ext cx="7872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Line 39"/>
          <p:cNvSpPr/>
          <p:nvPr/>
        </p:nvSpPr>
        <p:spPr>
          <a:xfrm>
            <a:off x="3430440" y="1941480"/>
            <a:ext cx="1800" cy="187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Line 40"/>
          <p:cNvSpPr/>
          <p:nvPr/>
        </p:nvSpPr>
        <p:spPr>
          <a:xfrm>
            <a:off x="2516040" y="1976400"/>
            <a:ext cx="9144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Line 41"/>
          <p:cNvSpPr/>
          <p:nvPr/>
        </p:nvSpPr>
        <p:spPr>
          <a:xfrm>
            <a:off x="1295280" y="1976400"/>
            <a:ext cx="154620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Line 42"/>
          <p:cNvSpPr/>
          <p:nvPr/>
        </p:nvSpPr>
        <p:spPr>
          <a:xfrm flipV="1">
            <a:off x="3430440" y="1660680"/>
            <a:ext cx="180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3451320" y="167652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44"/>
          <p:cNvSpPr/>
          <p:nvPr/>
        </p:nvSpPr>
        <p:spPr>
          <a:xfrm>
            <a:off x="214200" y="14479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ntrée CA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45"/>
          <p:cNvSpPr/>
          <p:nvPr/>
        </p:nvSpPr>
        <p:spPr>
          <a:xfrm>
            <a:off x="-76320" y="441648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x0000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4" name="Picture 46" descr=""/>
          <p:cNvPicPr/>
          <p:nvPr/>
        </p:nvPicPr>
        <p:blipFill>
          <a:blip r:embed="rId1"/>
          <a:stretch/>
        </p:blipFill>
        <p:spPr>
          <a:xfrm>
            <a:off x="1500120" y="811080"/>
            <a:ext cx="6948720" cy="712800"/>
          </a:xfrm>
          <a:prstGeom prst="rect">
            <a:avLst/>
          </a:prstGeom>
          <a:ln w="0">
            <a:noFill/>
          </a:ln>
        </p:spPr>
      </p:pic>
      <p:sp>
        <p:nvSpPr>
          <p:cNvPr id="955" name="Line 47"/>
          <p:cNvSpPr/>
          <p:nvPr/>
        </p:nvSpPr>
        <p:spPr>
          <a:xfrm>
            <a:off x="3949560" y="1676520"/>
            <a:ext cx="76212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3873600" y="1981080"/>
            <a:ext cx="312408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49"/>
          <p:cNvSpPr/>
          <p:nvPr/>
        </p:nvSpPr>
        <p:spPr>
          <a:xfrm flipV="1">
            <a:off x="3873600" y="1673280"/>
            <a:ext cx="1440" cy="311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4711680" y="1981080"/>
            <a:ext cx="9144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51"/>
          <p:cNvSpPr/>
          <p:nvPr/>
        </p:nvSpPr>
        <p:spPr>
          <a:xfrm flipV="1">
            <a:off x="5626080" y="1665360"/>
            <a:ext cx="1440" cy="318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646600" y="1681200"/>
            <a:ext cx="42228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145200" y="1681200"/>
            <a:ext cx="167652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Line 54"/>
          <p:cNvSpPr/>
          <p:nvPr/>
        </p:nvSpPr>
        <p:spPr>
          <a:xfrm flipV="1">
            <a:off x="6068880" y="1978200"/>
            <a:ext cx="1690920" cy="10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55"/>
          <p:cNvSpPr/>
          <p:nvPr/>
        </p:nvSpPr>
        <p:spPr>
          <a:xfrm flipV="1">
            <a:off x="6068880" y="1677960"/>
            <a:ext cx="1800" cy="311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3429720" y="198108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Evénement externe sur CA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Freeform 57"/>
          <p:cNvSpPr/>
          <p:nvPr/>
        </p:nvSpPr>
        <p:spPr>
          <a:xfrm>
            <a:off x="2300400" y="2057400"/>
            <a:ext cx="1069920" cy="34574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1070092" h="3457222">
                <a:moveTo>
                  <a:pt x="1070092" y="0"/>
                </a:moveTo>
                <a:cubicBezTo>
                  <a:pt x="704379" y="185796"/>
                  <a:pt x="338666" y="371592"/>
                  <a:pt x="181092" y="846666"/>
                </a:cubicBezTo>
                <a:cubicBezTo>
                  <a:pt x="23518" y="1321740"/>
                  <a:pt x="0" y="2415351"/>
                  <a:pt x="124648" y="2850444"/>
                </a:cubicBezTo>
                <a:cubicBezTo>
                  <a:pt x="249296" y="3285537"/>
                  <a:pt x="928981" y="3457222"/>
                  <a:pt x="928981" y="3457222"/>
                </a:cubicBezTo>
              </a:path>
            </a:pathLst>
          </a:custGeom>
          <a:noFill/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71500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Rx = 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Freeform 59"/>
          <p:cNvSpPr/>
          <p:nvPr/>
        </p:nvSpPr>
        <p:spPr>
          <a:xfrm>
            <a:off x="2728800" y="2089080"/>
            <a:ext cx="642960" cy="1325520"/>
          </a:xfrm>
          <a:custGeom>
            <a:avLst/>
            <a:gdLst>
              <a:gd name="textAreaLeft" fmla="*/ 0 w 642960"/>
              <a:gd name="textAreaRight" fmla="*/ 642960 w 64296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644408" h="1326445">
                <a:moveTo>
                  <a:pt x="644408" y="0"/>
                </a:moveTo>
                <a:cubicBezTo>
                  <a:pt x="424509" y="90546"/>
                  <a:pt x="204611" y="181093"/>
                  <a:pt x="108185" y="338667"/>
                </a:cubicBezTo>
                <a:cubicBezTo>
                  <a:pt x="11759" y="496241"/>
                  <a:pt x="0" y="780815"/>
                  <a:pt x="65852" y="945445"/>
                </a:cubicBezTo>
                <a:cubicBezTo>
                  <a:pt x="131704" y="1110075"/>
                  <a:pt x="503296" y="1326445"/>
                  <a:pt x="503296" y="1326445"/>
                </a:cubicBezTo>
              </a:path>
            </a:pathLst>
          </a:custGeom>
          <a:noFill/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 Box 60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4A0874-FE44-4464-82B0-E086EFC70701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sure de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152280" y="692280"/>
            <a:ext cx="8763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 qu’un événement Capture survient, une interruption peut être déclenché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valeur du compteur TC est copiée dans un registre CRx (par ex. CR0,CR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emps entre deux évènements peut être précisément mesuré avec la formule suivant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valle = ( valeur de CRx de fin  –  valeur de CRx du début ) x base de te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ar exemp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si la base de temps est de 1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premier événement CR donne CR1=1200 et le second événement donne CR1 = 36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valle de temps entre les deux évènements = (3680-1200) x 1 ms = 2480 ms = 2.48 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E6C982-9D34-4645-B48B-4E9923205D8C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orloges du LPC 17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1"/>
          <a:stretch/>
        </p:blipFill>
        <p:spPr>
          <a:xfrm>
            <a:off x="831960" y="1122480"/>
            <a:ext cx="7340400" cy="487512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173160" y="28893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12 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7"/>
          <p:cNvSpPr/>
          <p:nvPr/>
        </p:nvSpPr>
        <p:spPr>
          <a:xfrm>
            <a:off x="7805880" y="4581360"/>
            <a:ext cx="9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1 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7156440" y="584028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Au RE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9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181080" y="339084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4 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782964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4 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F7478F-959E-4FC6-9687-6121B38AB1D4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ranularité d’un timer? Préci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3" descr=""/>
          <p:cNvPicPr/>
          <p:nvPr/>
        </p:nvPicPr>
        <p:blipFill>
          <a:blip r:embed="rId1"/>
          <a:stretch/>
        </p:blipFill>
        <p:spPr>
          <a:xfrm>
            <a:off x="122400" y="847800"/>
            <a:ext cx="8759520" cy="518148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035E0A-8DA3-4B5B-ADC9-352D8ECFD2B6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gestion du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522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oser d’une base de temps précise pour effectuer des actions temporel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 exemple : déclencher lancer des tâches périodiquement ou à une heure préc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urer la durée d’un événement externe ou donner l’heure de l’événem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 exemple : chronométrage d’une course de s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cœur de processeur Cortex-M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ègre un périphérique Systick Timer de 24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icro-contrôleur LPC17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ègre un RTC (Real Time Clock) dont le but est de compter le temps (année, mois, jour, heure, minute, seconde). Sa résolution est de 1 seconde. Une alarme peut être programmée pour réveiller le process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ègre 4 timers de 3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ègre un timer répétitif de 32 bits (</a:t>
            </a:r>
            <a:r>
              <a:rPr b="0" i="1" lang="fr-CH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titive Interrupt Timer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 RI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1324B9-B8A8-445A-B266-C8CF914DEAAC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lcul de la granularité d’un tim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3" descr=""/>
          <p:cNvPicPr/>
          <p:nvPr/>
        </p:nvPicPr>
        <p:blipFill>
          <a:blip r:embed="rId1"/>
          <a:stretch/>
        </p:blipFill>
        <p:spPr>
          <a:xfrm>
            <a:off x="122400" y="847800"/>
            <a:ext cx="8759520" cy="5181480"/>
          </a:xfrm>
          <a:prstGeom prst="rect">
            <a:avLst/>
          </a:prstGeom>
          <a:ln w="0">
            <a:noFill/>
          </a:ln>
        </p:spPr>
      </p:pic>
      <p:sp>
        <p:nvSpPr>
          <p:cNvPr id="989" name="Line 4"/>
          <p:cNvSpPr/>
          <p:nvPr/>
        </p:nvSpPr>
        <p:spPr>
          <a:xfrm>
            <a:off x="826920" y="6031080"/>
            <a:ext cx="792360" cy="14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5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6"/>
          <p:cNvSpPr/>
          <p:nvPr/>
        </p:nvSpPr>
        <p:spPr>
          <a:xfrm>
            <a:off x="152280" y="4221000"/>
            <a:ext cx="8763120" cy="1944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9400" y="1989000"/>
            <a:ext cx="8766000" cy="719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9DA4D2-A924-42E8-80D7-A2C28E8F70FE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lcul de la précision d’un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tretch/>
        </p:blipFill>
        <p:spPr>
          <a:xfrm>
            <a:off x="122400" y="847800"/>
            <a:ext cx="8759520" cy="22194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4" descr=""/>
          <p:cNvPicPr/>
          <p:nvPr/>
        </p:nvPicPr>
        <p:blipFill>
          <a:blip r:embed="rId2"/>
          <a:stretch/>
        </p:blipFill>
        <p:spPr>
          <a:xfrm>
            <a:off x="360360" y="2925720"/>
            <a:ext cx="8674200" cy="2925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5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EB6AA7-2BE9-4E7F-9C9D-03C26913035F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2"/>
          <p:cNvSpPr/>
          <p:nvPr/>
        </p:nvSpPr>
        <p:spPr>
          <a:xfrm>
            <a:off x="415800" y="295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guration d’un timer avec interruption périod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3"/>
          <p:cNvSpPr/>
          <p:nvPr/>
        </p:nvSpPr>
        <p:spPr>
          <a:xfrm>
            <a:off x="468360" y="98100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Eventuellement: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anger la valeur du prescaler du timer pour imposer la base de temps dési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érifier que le timer se trouve dans le mode «horloge» (c’est le mode par défa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ser un intervalle de temps en écrivant le 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match reg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figurez le timer pour qu’il génère un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terrupt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lorsque la valeur du 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match register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st atteinte et qu’il effectue un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du comp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tivez la ligne d’interruption du VIC correspondante au timer utilis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crivez la routine d’interruption (donnez-lui le nom prédéfini dans cr_startup_lpc176x.c). N’oubliez pas d’acquitter la source de l’interrup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B40720-5ADB-4316-B83B-D1E046841F50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522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phérique dédié à la gestion précise du temps et également au comptage d’évèn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ément de base d’un TIMER :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UN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comp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e81b26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modes de fonctionn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e81b26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eur s’incrémentant selon une base de tem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és de réaliser une application de type horloge. Par exemple le compteur s’incrémente de 1 chaque seconde et permet de gérer date et he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de type minutage. Par exemple on planifie un événement dans 3 minu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de chronométrage. On souhaiter mesure le temps de façon précise avec une résolution du dixième de seconde pour une descente à s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e81b26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age d’évèn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que fois que l’on appui sur un bouton on souhaite incrémenter le compteur. Par exemple, à la fin de la journée on peut savoir le nombre de personnes qui sont venus visiter un musé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2BDB7D-E0FB-4BFA-9D87-DAB176BDB50D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IMER contrôlé par une base de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52280" y="1066680"/>
            <a:ext cx="876312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Base de temps fix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ce mode de fonctionnement le compteur s’incrémente de 1 à chaque flanc montant de l’horlo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r exempl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 de temps de la seconde pour une horlo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 de temps de 1 ms pour un chronomètre de pré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 de temps de 39,8 us dans le cas d’un besoin spécif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rcice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ate/Heure sous 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chant que la date et l’heure est représenté sous Unix par un mot signé de 32 bits, que ce compteur est incrémenté d’une unité à chaque seconde et que la valeur 0 correspond au 1er janvier 1970 à 0H00, de combien est incrémenté ce compteur chaque jou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ez (en supposant que chaque année comporte 365 jours) à quelle date ce compteur aura atteint sa valeur maxima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se passera-t-il à ce moment là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1E691C-D02A-4C3A-889F-3261518BEEDC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IMER en mode comp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52280" y="1066680"/>
            <a:ext cx="876312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base de temps dans ce mod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mpteur est incrémenté de 1 au travers d’évènement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extern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tels qu’une entrée numérique passant de l’état 0 à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Exercice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haîne de production industrie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TIMER est utilisé pour compter la production de boulons dans une usine. L’usine démarre à 7H00 et s’arrête à 18H00. Une pause de 1H00 de temps à lieu à midi. Chaque fois qu’un boulon est produit une impulsion est transmise à un périphérique TIMER d’un microcontrôleur. Le nombre de boulons moyen est de 2000 par heure. Une interruption de 30 minutes à eu lieu de 10H30 à 11H00 suite à un problème techniq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le sera la valeur du compteur du périphérique TIMER à la fin de la journé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81b2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chant que le compteur est remis à 0 à chaque début de journée et que le lendemain il n’y a pas eu de problème technique, quelle sera la valeur à la fin de cette nouvelle journé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CF0BCB-6B6A-4B17-97D4-0AB712673BFD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rchitecture du microcontrô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2200320" y="2486160"/>
            <a:ext cx="701640" cy="1752480"/>
          </a:xfrm>
          <a:prstGeom prst="rect">
            <a:avLst/>
          </a:prstGeom>
          <a:solidFill>
            <a:srgbClr val="bbe0e3"/>
          </a:solidFill>
          <a:ln cap="sq" w="38160">
            <a:solidFill>
              <a:srgbClr val="000000"/>
            </a:solidFill>
            <a:miter/>
          </a:ln>
          <a:effectLst>
            <a:outerShdw dist="134955" dir="2927119" blurRad="0" rotWithShape="0">
              <a:srgbClr val="3333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30240" y="2486160"/>
            <a:ext cx="1846080" cy="1520640"/>
            <a:chOff x="30240" y="2486160"/>
            <a:chExt cx="1846080" cy="1520640"/>
          </a:xfrm>
        </p:grpSpPr>
        <p:sp>
          <p:nvSpPr>
            <p:cNvPr id="672" name="Rectangle 5"/>
            <p:cNvSpPr/>
            <p:nvPr/>
          </p:nvSpPr>
          <p:spPr>
            <a:xfrm>
              <a:off x="30240" y="2486160"/>
              <a:ext cx="1846080" cy="1520640"/>
            </a:xfrm>
            <a:prstGeom prst="rect">
              <a:avLst/>
            </a:prstGeom>
            <a:solidFill>
              <a:srgbClr val="bbe0e3"/>
            </a:solidFill>
            <a:ln cap="sq" w="38160">
              <a:solidFill>
                <a:srgbClr val="000000"/>
              </a:solidFill>
              <a:miter/>
            </a:ln>
            <a:effectLst>
              <a:outerShdw dist="172675" dir="2160588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6"/>
            <p:cNvSpPr/>
            <p:nvPr/>
          </p:nvSpPr>
          <p:spPr>
            <a:xfrm>
              <a:off x="95400" y="3014640"/>
              <a:ext cx="1717560" cy="33732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00"/>
              </a:solidFill>
              <a:miter/>
            </a:ln>
            <a:effectLst>
              <a:outerShdw dist="102388" dir="1783193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CH" sz="1600" spc="-1" strike="noStrike">
                  <a:solidFill>
                    <a:srgbClr val="000000"/>
                  </a:solidFill>
                  <a:latin typeface="Arial"/>
                </a:rPr>
                <a:t>MicroProcesseu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Group 7"/>
          <p:cNvGrpSpPr/>
          <p:nvPr/>
        </p:nvGrpSpPr>
        <p:grpSpPr>
          <a:xfrm>
            <a:off x="3379680" y="2481120"/>
            <a:ext cx="1527120" cy="1521000"/>
            <a:chOff x="3379680" y="2481120"/>
            <a:chExt cx="1527120" cy="1521000"/>
          </a:xfrm>
        </p:grpSpPr>
        <p:sp>
          <p:nvSpPr>
            <p:cNvPr id="675" name="Rectangle 8"/>
            <p:cNvSpPr/>
            <p:nvPr/>
          </p:nvSpPr>
          <p:spPr>
            <a:xfrm>
              <a:off x="3379680" y="2481120"/>
              <a:ext cx="1527120" cy="1521000"/>
            </a:xfrm>
            <a:prstGeom prst="rect">
              <a:avLst/>
            </a:prstGeom>
            <a:solidFill>
              <a:srgbClr val="bbe0e3"/>
            </a:solidFill>
            <a:ln cap="sq" w="38160">
              <a:solidFill>
                <a:srgbClr val="000000"/>
              </a:solidFill>
              <a:miter/>
            </a:ln>
            <a:effectLst>
              <a:outerShdw dist="134955" dir="2927119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3444840" y="2600280"/>
              <a:ext cx="1398600" cy="36828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émoire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Text Box 10"/>
          <p:cNvSpPr/>
          <p:nvPr/>
        </p:nvSpPr>
        <p:spPr>
          <a:xfrm>
            <a:off x="2405160" y="2562120"/>
            <a:ext cx="253800" cy="155412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  <a:effectLst>
            <a:outerShdw dist="73964" dir="1863564" blurRad="0" rotWithShape="0">
              <a:srgbClr val="3c3b1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11"/>
          <p:cNvSpPr/>
          <p:nvPr/>
        </p:nvSpPr>
        <p:spPr>
          <a:xfrm>
            <a:off x="736560" y="1555920"/>
            <a:ext cx="7583400" cy="609480"/>
          </a:xfrm>
          <a:prstGeom prst="parallelogram">
            <a:avLst>
              <a:gd name="adj" fmla="val 111751"/>
            </a:avLst>
          </a:prstGeom>
          <a:solidFill>
            <a:srgbClr val="339966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Bus 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12"/>
          <p:cNvSpPr/>
          <p:nvPr/>
        </p:nvSpPr>
        <p:spPr>
          <a:xfrm>
            <a:off x="733320" y="1541520"/>
            <a:ext cx="646200" cy="928800"/>
          </a:xfrm>
          <a:custGeom>
            <a:avLst/>
            <a:gdLst>
              <a:gd name="textAreaLeft" fmla="*/ 0 w 646200"/>
              <a:gd name="textAreaRight" fmla="*/ 646560 w 646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486" h="585">
                <a:moveTo>
                  <a:pt x="486" y="585"/>
                </a:moveTo>
                <a:lnTo>
                  <a:pt x="0" y="585"/>
                </a:lnTo>
                <a:lnTo>
                  <a:pt x="0" y="393"/>
                </a:lnTo>
                <a:lnTo>
                  <a:pt x="485" y="0"/>
                </a:lnTo>
                <a:lnTo>
                  <a:pt x="486" y="585"/>
                </a:lnTo>
                <a:close/>
              </a:path>
            </a:pathLst>
          </a:custGeom>
          <a:solidFill>
            <a:srgbClr val="339966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Freeform 13"/>
          <p:cNvSpPr/>
          <p:nvPr/>
        </p:nvSpPr>
        <p:spPr>
          <a:xfrm>
            <a:off x="3975120" y="1557360"/>
            <a:ext cx="398520" cy="928800"/>
          </a:xfrm>
          <a:custGeom>
            <a:avLst/>
            <a:gdLst>
              <a:gd name="textAreaLeft" fmla="*/ 0 w 398520"/>
              <a:gd name="textAreaRight" fmla="*/ 398880 w 398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300" h="585">
                <a:moveTo>
                  <a:pt x="300" y="585"/>
                </a:moveTo>
                <a:lnTo>
                  <a:pt x="0" y="581"/>
                </a:lnTo>
                <a:lnTo>
                  <a:pt x="6" y="235"/>
                </a:lnTo>
                <a:lnTo>
                  <a:pt x="299" y="0"/>
                </a:lnTo>
                <a:lnTo>
                  <a:pt x="300" y="585"/>
                </a:lnTo>
                <a:close/>
              </a:path>
            </a:pathLst>
          </a:custGeom>
          <a:solidFill>
            <a:srgbClr val="339966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Freeform 14"/>
          <p:cNvSpPr/>
          <p:nvPr/>
        </p:nvSpPr>
        <p:spPr>
          <a:xfrm>
            <a:off x="6438960" y="1557360"/>
            <a:ext cx="146160" cy="922320"/>
          </a:xfrm>
          <a:custGeom>
            <a:avLst/>
            <a:gdLst>
              <a:gd name="textAreaLeft" fmla="*/ 0 w 146160"/>
              <a:gd name="textAreaRight" fmla="*/ 146520 w 14616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111" h="581">
                <a:moveTo>
                  <a:pt x="111" y="581"/>
                </a:moveTo>
                <a:lnTo>
                  <a:pt x="0" y="581"/>
                </a:lnTo>
                <a:lnTo>
                  <a:pt x="5" y="87"/>
                </a:lnTo>
                <a:lnTo>
                  <a:pt x="110" y="0"/>
                </a:lnTo>
                <a:lnTo>
                  <a:pt x="111" y="581"/>
                </a:lnTo>
                <a:close/>
              </a:path>
            </a:pathLst>
          </a:custGeom>
          <a:solidFill>
            <a:srgbClr val="339966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15"/>
          <p:cNvSpPr/>
          <p:nvPr/>
        </p:nvSpPr>
        <p:spPr>
          <a:xfrm>
            <a:off x="2516040" y="1982880"/>
            <a:ext cx="147960" cy="487440"/>
          </a:xfrm>
          <a:custGeom>
            <a:avLst/>
            <a:gdLst>
              <a:gd name="textAreaLeft" fmla="*/ 0 w 147960"/>
              <a:gd name="textAreaRight" fmla="*/ 148320 w 1479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11" h="307">
                <a:moveTo>
                  <a:pt x="111" y="307"/>
                </a:moveTo>
                <a:lnTo>
                  <a:pt x="0" y="307"/>
                </a:lnTo>
                <a:lnTo>
                  <a:pt x="5" y="107"/>
                </a:lnTo>
                <a:lnTo>
                  <a:pt x="106" y="0"/>
                </a:lnTo>
                <a:lnTo>
                  <a:pt x="111" y="307"/>
                </a:lnTo>
                <a:close/>
              </a:path>
            </a:pathLst>
          </a:custGeom>
          <a:solidFill>
            <a:srgbClr val="339966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Freeform 16"/>
          <p:cNvSpPr/>
          <p:nvPr/>
        </p:nvSpPr>
        <p:spPr>
          <a:xfrm>
            <a:off x="923760" y="1695600"/>
            <a:ext cx="679680" cy="790560"/>
          </a:xfrm>
          <a:custGeom>
            <a:avLst/>
            <a:gdLst>
              <a:gd name="textAreaLeft" fmla="*/ 390960 w 679680"/>
              <a:gd name="textAreaRight" fmla="*/ 573840 w 679680"/>
              <a:gd name="textAreaTop" fmla="*/ 106560 h 790560"/>
              <a:gd name="textAreaBottom" fmla="*/ 33840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17"/>
          <p:cNvSpPr/>
          <p:nvPr/>
        </p:nvSpPr>
        <p:spPr>
          <a:xfrm>
            <a:off x="728640" y="5051520"/>
            <a:ext cx="7689960" cy="609480"/>
          </a:xfrm>
          <a:prstGeom prst="parallelogram">
            <a:avLst>
              <a:gd name="adj" fmla="val 109641"/>
            </a:avLst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us de donné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18"/>
          <p:cNvSpPr/>
          <p:nvPr/>
        </p:nvSpPr>
        <p:spPr>
          <a:xfrm>
            <a:off x="720720" y="4010040"/>
            <a:ext cx="654120" cy="1652400"/>
          </a:xfrm>
          <a:custGeom>
            <a:avLst/>
            <a:gdLst>
              <a:gd name="textAreaLeft" fmla="*/ 0 w 654120"/>
              <a:gd name="textAreaRight" fmla="*/ 654480 w 65412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492" h="1041">
                <a:moveTo>
                  <a:pt x="492" y="0"/>
                </a:moveTo>
                <a:lnTo>
                  <a:pt x="6" y="0"/>
                </a:lnTo>
                <a:lnTo>
                  <a:pt x="0" y="1041"/>
                </a:lnTo>
                <a:lnTo>
                  <a:pt x="491" y="656"/>
                </a:lnTo>
                <a:lnTo>
                  <a:pt x="492" y="0"/>
                </a:lnTo>
                <a:close/>
              </a:path>
            </a:pathLst>
          </a:custGeom>
          <a:solidFill>
            <a:srgbClr val="ff0000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reeform 19"/>
          <p:cNvSpPr/>
          <p:nvPr/>
        </p:nvSpPr>
        <p:spPr>
          <a:xfrm>
            <a:off x="3838680" y="4010040"/>
            <a:ext cx="654120" cy="1652400"/>
          </a:xfrm>
          <a:custGeom>
            <a:avLst/>
            <a:gdLst>
              <a:gd name="textAreaLeft" fmla="*/ 0 w 654120"/>
              <a:gd name="textAreaRight" fmla="*/ 654480 w 65412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492" h="1041">
                <a:moveTo>
                  <a:pt x="492" y="0"/>
                </a:moveTo>
                <a:lnTo>
                  <a:pt x="6" y="0"/>
                </a:lnTo>
                <a:lnTo>
                  <a:pt x="0" y="1041"/>
                </a:lnTo>
                <a:lnTo>
                  <a:pt x="491" y="656"/>
                </a:lnTo>
                <a:lnTo>
                  <a:pt x="492" y="0"/>
                </a:lnTo>
                <a:close/>
              </a:path>
            </a:pathLst>
          </a:custGeom>
          <a:solidFill>
            <a:srgbClr val="ff0000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Freeform 20"/>
          <p:cNvSpPr/>
          <p:nvPr/>
        </p:nvSpPr>
        <p:spPr>
          <a:xfrm>
            <a:off x="5927760" y="4019400"/>
            <a:ext cx="654120" cy="1652760"/>
          </a:xfrm>
          <a:custGeom>
            <a:avLst/>
            <a:gdLst>
              <a:gd name="textAreaLeft" fmla="*/ 0 w 654120"/>
              <a:gd name="textAreaRight" fmla="*/ 654480 w 654120"/>
              <a:gd name="textAreaTop" fmla="*/ 0 h 1652760"/>
              <a:gd name="textAreaBottom" fmla="*/ 1653120 h 1652760"/>
            </a:gdLst>
            <a:ahLst/>
            <a:rect l="textAreaLeft" t="textAreaTop" r="textAreaRight" b="textAreaBottom"/>
            <a:pathLst>
              <a:path w="492" h="1041">
                <a:moveTo>
                  <a:pt x="492" y="0"/>
                </a:moveTo>
                <a:lnTo>
                  <a:pt x="6" y="0"/>
                </a:lnTo>
                <a:lnTo>
                  <a:pt x="0" y="1041"/>
                </a:lnTo>
                <a:lnTo>
                  <a:pt x="491" y="656"/>
                </a:lnTo>
                <a:lnTo>
                  <a:pt x="492" y="0"/>
                </a:lnTo>
                <a:close/>
              </a:path>
            </a:pathLst>
          </a:custGeom>
          <a:solidFill>
            <a:srgbClr val="ff0000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21"/>
          <p:cNvSpPr/>
          <p:nvPr/>
        </p:nvSpPr>
        <p:spPr>
          <a:xfrm>
            <a:off x="2511360" y="2076480"/>
            <a:ext cx="147600" cy="409680"/>
          </a:xfrm>
          <a:prstGeom prst="downArrow">
            <a:avLst>
              <a:gd name="adj1" fmla="val 50000"/>
              <a:gd name="adj2" fmla="val 6405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22"/>
          <p:cNvSpPr/>
          <p:nvPr/>
        </p:nvSpPr>
        <p:spPr>
          <a:xfrm>
            <a:off x="4089240" y="1857240"/>
            <a:ext cx="176400" cy="630360"/>
          </a:xfrm>
          <a:prstGeom prst="downArrow">
            <a:avLst>
              <a:gd name="adj1" fmla="val 50000"/>
              <a:gd name="adj2" fmla="val 8247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23"/>
          <p:cNvSpPr/>
          <p:nvPr/>
        </p:nvSpPr>
        <p:spPr>
          <a:xfrm>
            <a:off x="6432480" y="1865160"/>
            <a:ext cx="149400" cy="630360"/>
          </a:xfrm>
          <a:prstGeom prst="downArrow">
            <a:avLst>
              <a:gd name="adj1" fmla="val 50000"/>
              <a:gd name="adj2" fmla="val 9737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24"/>
          <p:cNvSpPr/>
          <p:nvPr/>
        </p:nvSpPr>
        <p:spPr>
          <a:xfrm>
            <a:off x="923760" y="4238640"/>
            <a:ext cx="243000" cy="966600"/>
          </a:xfrm>
          <a:prstGeom prst="upDownArrow">
            <a:avLst>
              <a:gd name="adj1" fmla="val 50000"/>
              <a:gd name="adj2" fmla="val 7344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25"/>
          <p:cNvSpPr/>
          <p:nvPr/>
        </p:nvSpPr>
        <p:spPr>
          <a:xfrm>
            <a:off x="4022640" y="4240080"/>
            <a:ext cx="243000" cy="966960"/>
          </a:xfrm>
          <a:prstGeom prst="upDownArrow">
            <a:avLst>
              <a:gd name="adj1" fmla="val 50000"/>
              <a:gd name="adj2" fmla="val 73469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26"/>
          <p:cNvSpPr/>
          <p:nvPr/>
        </p:nvSpPr>
        <p:spPr>
          <a:xfrm>
            <a:off x="6153120" y="4238640"/>
            <a:ext cx="243000" cy="966600"/>
          </a:xfrm>
          <a:prstGeom prst="upDownArrow">
            <a:avLst>
              <a:gd name="adj1" fmla="val 50000"/>
              <a:gd name="adj2" fmla="val 7344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Group 27"/>
          <p:cNvGrpSpPr/>
          <p:nvPr/>
        </p:nvGrpSpPr>
        <p:grpSpPr>
          <a:xfrm>
            <a:off x="1879560" y="3106800"/>
            <a:ext cx="349200" cy="476280"/>
            <a:chOff x="1879560" y="3106800"/>
            <a:chExt cx="349200" cy="476280"/>
          </a:xfrm>
        </p:grpSpPr>
        <p:sp>
          <p:nvSpPr>
            <p:cNvPr id="695" name="AutoShape 28"/>
            <p:cNvSpPr/>
            <p:nvPr/>
          </p:nvSpPr>
          <p:spPr>
            <a:xfrm>
              <a:off x="1879560" y="3106800"/>
              <a:ext cx="349200" cy="203040"/>
            </a:xfrm>
            <a:prstGeom prst="rightArrow">
              <a:avLst>
                <a:gd name="adj1" fmla="val 50000"/>
                <a:gd name="adj2" fmla="val 42996"/>
              </a:avLst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AutoShape 29"/>
            <p:cNvSpPr/>
            <p:nvPr/>
          </p:nvSpPr>
          <p:spPr>
            <a:xfrm>
              <a:off x="1879560" y="3478320"/>
              <a:ext cx="349200" cy="104760"/>
            </a:xfrm>
            <a:prstGeom prst="leftArrow">
              <a:avLst>
                <a:gd name="adj1" fmla="val 50000"/>
                <a:gd name="adj2" fmla="val 83333"/>
              </a:avLst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Line 30"/>
          <p:cNvSpPr/>
          <p:nvPr/>
        </p:nvSpPr>
        <p:spPr>
          <a:xfrm>
            <a:off x="2932200" y="3110040"/>
            <a:ext cx="447480" cy="144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31"/>
          <p:cNvSpPr/>
          <p:nvPr/>
        </p:nvSpPr>
        <p:spPr>
          <a:xfrm>
            <a:off x="5037120" y="3478320"/>
            <a:ext cx="446040" cy="144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2"/>
          <p:cNvSpPr/>
          <p:nvPr/>
        </p:nvSpPr>
        <p:spPr>
          <a:xfrm>
            <a:off x="2932200" y="3478320"/>
            <a:ext cx="320760" cy="1440"/>
          </a:xfrm>
          <a:prstGeom prst="line">
            <a:avLst/>
          </a:prstGeom>
          <a:ln cap="sq" w="572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3443400" y="3111480"/>
            <a:ext cx="1403280" cy="733320"/>
          </a:xfrm>
          <a:prstGeom prst="rect">
            <a:avLst/>
          </a:prstGeom>
          <a:solidFill>
            <a:srgbClr val="ffff99"/>
          </a:solidFill>
          <a:ln cap="sq" w="15840">
            <a:solidFill>
              <a:srgbClr val="000000"/>
            </a:solidFill>
            <a:miter/>
          </a:ln>
          <a:effectLst>
            <a:outerShdw dist="63504" dir="3183908" blurRad="0" rotWithShape="0">
              <a:srgbClr val="3333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1" name="Group 34"/>
          <p:cNvGrpSpPr/>
          <p:nvPr/>
        </p:nvGrpSpPr>
        <p:grpSpPr>
          <a:xfrm>
            <a:off x="5483160" y="2495520"/>
            <a:ext cx="1590840" cy="1521000"/>
            <a:chOff x="5483160" y="2495520"/>
            <a:chExt cx="1590840" cy="1521000"/>
          </a:xfrm>
        </p:grpSpPr>
        <p:grpSp>
          <p:nvGrpSpPr>
            <p:cNvPr id="702" name="Group 35"/>
            <p:cNvGrpSpPr/>
            <p:nvPr/>
          </p:nvGrpSpPr>
          <p:grpSpPr>
            <a:xfrm>
              <a:off x="5483160" y="2495520"/>
              <a:ext cx="1251000" cy="1521000"/>
              <a:chOff x="5483160" y="2495520"/>
              <a:chExt cx="1251000" cy="1521000"/>
            </a:xfrm>
          </p:grpSpPr>
          <p:sp>
            <p:nvSpPr>
              <p:cNvPr id="703" name="Rectangle 36"/>
              <p:cNvSpPr/>
              <p:nvPr/>
            </p:nvSpPr>
            <p:spPr>
              <a:xfrm>
                <a:off x="5483160" y="2495520"/>
                <a:ext cx="1251000" cy="1521000"/>
              </a:xfrm>
              <a:prstGeom prst="rect">
                <a:avLst/>
              </a:prstGeom>
              <a:solidFill>
                <a:srgbClr val="bbe0e3"/>
              </a:solidFill>
              <a:ln cap="sq" w="38160">
                <a:solidFill>
                  <a:srgbClr val="000000"/>
                </a:solidFill>
                <a:miter/>
              </a:ln>
              <a:effectLst>
                <a:outerShdw dist="134955" dir="2927119" blurRad="0" rotWithShape="0">
                  <a:srgbClr val="333333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Text Box 37"/>
              <p:cNvSpPr/>
              <p:nvPr/>
            </p:nvSpPr>
            <p:spPr>
              <a:xfrm>
                <a:off x="5535720" y="2800440"/>
                <a:ext cx="1144440" cy="1059840"/>
              </a:xfrm>
              <a:prstGeom prst="rect">
                <a:avLst/>
              </a:prstGeom>
              <a:solidFill>
                <a:srgbClr val="ffff00"/>
              </a:solidFill>
              <a:ln cap="sq" w="1584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333333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fr-CH" sz="1800" spc="-1" strike="noStrike">
                    <a:solidFill>
                      <a:srgbClr val="000000"/>
                    </a:solidFill>
                    <a:latin typeface="Arial"/>
                  </a:rPr>
                  <a:t>Entrées / Sorti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fr-CH" sz="1800" spc="-1" strike="noStrike">
                    <a:solidFill>
                      <a:srgbClr val="000000"/>
                    </a:solidFill>
                    <a:latin typeface="Arial"/>
                  </a:rPr>
                  <a:t>GPI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38"/>
            <p:cNvGrpSpPr/>
            <p:nvPr/>
          </p:nvGrpSpPr>
          <p:grpSpPr>
            <a:xfrm>
              <a:off x="6737040" y="2825640"/>
              <a:ext cx="336960" cy="765000"/>
              <a:chOff x="6737040" y="2825640"/>
              <a:chExt cx="336960" cy="765000"/>
            </a:xfrm>
          </p:grpSpPr>
          <p:sp>
            <p:nvSpPr>
              <p:cNvPr id="706" name="Freeform 39"/>
              <p:cNvSpPr/>
              <p:nvPr/>
            </p:nvSpPr>
            <p:spPr>
              <a:xfrm>
                <a:off x="6737400" y="3282120"/>
                <a:ext cx="336600" cy="308520"/>
              </a:xfrm>
              <a:custGeom>
                <a:avLst/>
                <a:gdLst>
                  <a:gd name="textAreaLeft" fmla="*/ 52200 w 336600"/>
                  <a:gd name="textAreaRight" fmla="*/ 293760 w 336600"/>
                  <a:gd name="textAreaTop" fmla="*/ 77760 h 308520"/>
                  <a:gd name="textAreaBottom" fmla="*/ 232200 h 30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40"/>
              <p:cNvSpPr/>
              <p:nvPr/>
            </p:nvSpPr>
            <p:spPr>
              <a:xfrm flipH="1">
                <a:off x="6736680" y="2825640"/>
                <a:ext cx="336600" cy="308880"/>
              </a:xfrm>
              <a:custGeom>
                <a:avLst/>
                <a:gdLst>
                  <a:gd name="textAreaLeft" fmla="*/ 52200 w 336600"/>
                  <a:gd name="textAreaRight" fmla="*/ 293760 w 336600"/>
                  <a:gd name="textAreaTop" fmla="*/ 77760 h 308880"/>
                  <a:gd name="textAreaBottom" fmla="*/ 232560 h 30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Group 41"/>
          <p:cNvGrpSpPr/>
          <p:nvPr/>
        </p:nvGrpSpPr>
        <p:grpSpPr>
          <a:xfrm>
            <a:off x="7446960" y="2529000"/>
            <a:ext cx="1251000" cy="1520640"/>
            <a:chOff x="7446960" y="2529000"/>
            <a:chExt cx="1251000" cy="1520640"/>
          </a:xfrm>
        </p:grpSpPr>
        <p:sp>
          <p:nvSpPr>
            <p:cNvPr id="709" name="Rectangle 42"/>
            <p:cNvSpPr/>
            <p:nvPr/>
          </p:nvSpPr>
          <p:spPr>
            <a:xfrm>
              <a:off x="7446960" y="2529000"/>
              <a:ext cx="1251000" cy="1520640"/>
            </a:xfrm>
            <a:prstGeom prst="rect">
              <a:avLst/>
            </a:prstGeom>
            <a:solidFill>
              <a:srgbClr val="bbe0e3"/>
            </a:solidFill>
            <a:ln cap="sq" w="38160">
              <a:solidFill>
                <a:srgbClr val="000000"/>
              </a:solidFill>
              <a:miter/>
            </a:ln>
            <a:effectLst>
              <a:outerShdw dist="134955" dir="2927119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7499520" y="2833560"/>
              <a:ext cx="1144440" cy="721800"/>
            </a:xfrm>
            <a:prstGeom prst="rect">
              <a:avLst/>
            </a:prstGeom>
            <a:solidFill>
              <a:srgbClr val="ffff00"/>
            </a:solidFill>
            <a:ln cap="sq" w="1584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33333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TIMER0</a:t>
              </a:r>
              <a:r>
                <a:rPr b="0" lang="fr-CH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Freeform 44"/>
          <p:cNvSpPr/>
          <p:nvPr/>
        </p:nvSpPr>
        <p:spPr>
          <a:xfrm flipH="1">
            <a:off x="8700480" y="3003480"/>
            <a:ext cx="339480" cy="312840"/>
          </a:xfrm>
          <a:custGeom>
            <a:avLst/>
            <a:gdLst>
              <a:gd name="textAreaLeft" fmla="*/ 52920 w 339480"/>
              <a:gd name="textAreaRight" fmla="*/ 297360 w 33948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45"/>
          <p:cNvSpPr/>
          <p:nvPr/>
        </p:nvSpPr>
        <p:spPr>
          <a:xfrm>
            <a:off x="8169120" y="1573200"/>
            <a:ext cx="146160" cy="922320"/>
          </a:xfrm>
          <a:custGeom>
            <a:avLst/>
            <a:gdLst>
              <a:gd name="textAreaLeft" fmla="*/ 0 w 146160"/>
              <a:gd name="textAreaRight" fmla="*/ 146520 w 14616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111" h="581">
                <a:moveTo>
                  <a:pt x="111" y="581"/>
                </a:moveTo>
                <a:lnTo>
                  <a:pt x="0" y="581"/>
                </a:lnTo>
                <a:lnTo>
                  <a:pt x="5" y="87"/>
                </a:lnTo>
                <a:lnTo>
                  <a:pt x="110" y="0"/>
                </a:lnTo>
                <a:lnTo>
                  <a:pt x="111" y="581"/>
                </a:lnTo>
                <a:close/>
              </a:path>
            </a:pathLst>
          </a:custGeom>
          <a:solidFill>
            <a:srgbClr val="339966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46"/>
          <p:cNvSpPr/>
          <p:nvPr/>
        </p:nvSpPr>
        <p:spPr>
          <a:xfrm>
            <a:off x="8164440" y="1827360"/>
            <a:ext cx="149400" cy="630000"/>
          </a:xfrm>
          <a:prstGeom prst="downArrow">
            <a:avLst>
              <a:gd name="adj1" fmla="val 50000"/>
              <a:gd name="adj2" fmla="val 9732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47"/>
          <p:cNvSpPr/>
          <p:nvPr/>
        </p:nvSpPr>
        <p:spPr>
          <a:xfrm>
            <a:off x="2940120" y="3730680"/>
            <a:ext cx="320760" cy="1440"/>
          </a:xfrm>
          <a:prstGeom prst="line">
            <a:avLst/>
          </a:prstGeom>
          <a:ln cap="sq" w="572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8"/>
          <p:cNvSpPr/>
          <p:nvPr/>
        </p:nvSpPr>
        <p:spPr>
          <a:xfrm>
            <a:off x="5045040" y="3741840"/>
            <a:ext cx="320760" cy="1440"/>
          </a:xfrm>
          <a:prstGeom prst="line">
            <a:avLst/>
          </a:prstGeom>
          <a:ln cap="sq" w="572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49"/>
          <p:cNvSpPr/>
          <p:nvPr/>
        </p:nvSpPr>
        <p:spPr>
          <a:xfrm>
            <a:off x="6799320" y="3768840"/>
            <a:ext cx="603360" cy="144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Freeform 50"/>
          <p:cNvSpPr/>
          <p:nvPr/>
        </p:nvSpPr>
        <p:spPr>
          <a:xfrm>
            <a:off x="7780320" y="4043520"/>
            <a:ext cx="652320" cy="1652400"/>
          </a:xfrm>
          <a:custGeom>
            <a:avLst/>
            <a:gdLst>
              <a:gd name="textAreaLeft" fmla="*/ 0 w 652320"/>
              <a:gd name="textAreaRight" fmla="*/ 652680 w 65232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492" h="1041">
                <a:moveTo>
                  <a:pt x="492" y="0"/>
                </a:moveTo>
                <a:lnTo>
                  <a:pt x="6" y="0"/>
                </a:lnTo>
                <a:lnTo>
                  <a:pt x="0" y="1041"/>
                </a:lnTo>
                <a:lnTo>
                  <a:pt x="491" y="656"/>
                </a:lnTo>
                <a:lnTo>
                  <a:pt x="492" y="0"/>
                </a:lnTo>
                <a:close/>
              </a:path>
            </a:pathLst>
          </a:custGeom>
          <a:solidFill>
            <a:srgbClr val="ff0000"/>
          </a:solidFill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AutoShape 51"/>
          <p:cNvSpPr/>
          <p:nvPr/>
        </p:nvSpPr>
        <p:spPr>
          <a:xfrm>
            <a:off x="7943760" y="4232160"/>
            <a:ext cx="243000" cy="966960"/>
          </a:xfrm>
          <a:prstGeom prst="upDownArrow">
            <a:avLst>
              <a:gd name="adj1" fmla="val 50000"/>
              <a:gd name="adj2" fmla="val 73469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52"/>
          <p:cNvSpPr/>
          <p:nvPr/>
        </p:nvSpPr>
        <p:spPr>
          <a:xfrm>
            <a:off x="7667640" y="2168640"/>
            <a:ext cx="1260360" cy="1440"/>
          </a:xfrm>
          <a:prstGeom prst="line">
            <a:avLst/>
          </a:prstGeom>
          <a:ln cap="sq" w="284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53"/>
          <p:cNvSpPr/>
          <p:nvPr/>
        </p:nvSpPr>
        <p:spPr>
          <a:xfrm>
            <a:off x="8315280" y="1569960"/>
            <a:ext cx="614520" cy="1800"/>
          </a:xfrm>
          <a:prstGeom prst="line">
            <a:avLst/>
          </a:prstGeom>
          <a:ln cap="sq" w="284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54"/>
          <p:cNvSpPr/>
          <p:nvPr/>
        </p:nvSpPr>
        <p:spPr>
          <a:xfrm>
            <a:off x="7740720" y="5664240"/>
            <a:ext cx="1260360" cy="1440"/>
          </a:xfrm>
          <a:prstGeom prst="line">
            <a:avLst/>
          </a:prstGeom>
          <a:ln cap="sq" w="284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55"/>
          <p:cNvSpPr/>
          <p:nvPr/>
        </p:nvSpPr>
        <p:spPr>
          <a:xfrm>
            <a:off x="8386920" y="5099040"/>
            <a:ext cx="614160" cy="1440"/>
          </a:xfrm>
          <a:prstGeom prst="line">
            <a:avLst/>
          </a:prstGeom>
          <a:ln cap="sq" w="2844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56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DA9CF6-750B-466A-835C-E7AA8B67182F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2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ériphérique TIMER du microcontrôleur LPC17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1522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icrocontrôleur NXP LPC1769 possè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qua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IMER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indépenda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vec pour chac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compteur de 32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input capture regi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match regi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5 registres (de 32 bits) interne au périphérique permetta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5840">
              <a:lnSpc>
                <a:spcPct val="80000"/>
              </a:lnSpc>
              <a:spcBef>
                <a:spcPts val="60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ôle du TI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5840">
              <a:lnSpc>
                <a:spcPct val="80000"/>
              </a:lnSpc>
              <a:spcBef>
                <a:spcPts val="60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t (état) du TI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5840">
              <a:lnSpc>
                <a:spcPct val="80000"/>
              </a:lnSpc>
              <a:spcBef>
                <a:spcPts val="60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es de capture d’évèn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5840">
              <a:lnSpc>
                <a:spcPct val="80000"/>
              </a:lnSpc>
              <a:spcBef>
                <a:spcPts val="601"/>
              </a:spcBef>
              <a:buClr>
                <a:srgbClr val="e81b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es pour programmer des évè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1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BD477B-0DFA-43C4-B8D5-60C05FBC7F79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52280" y="152280"/>
            <a:ext cx="3195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rchitecture interne d’un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4181400" y="-1116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4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1" descr=""/>
          <p:cNvPicPr/>
          <p:nvPr/>
        </p:nvPicPr>
        <p:blipFill>
          <a:blip r:embed="rId1"/>
          <a:srcRect l="0" t="32152" r="0" b="0"/>
          <a:stretch/>
        </p:blipFill>
        <p:spPr>
          <a:xfrm>
            <a:off x="3152880" y="765000"/>
            <a:ext cx="6459480" cy="60580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2"/>
          <p:cNvSpPr/>
          <p:nvPr/>
        </p:nvSpPr>
        <p:spPr>
          <a:xfrm>
            <a:off x="6300720" y="6492960"/>
            <a:ext cx="1339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E18E8C-5A6C-4A9C-9649-97772D309C2A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se de temps du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0" y="1066680"/>
            <a:ext cx="388620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Arial"/>
              </a:rPr>
              <a:t>Le compteur est un registre de 32 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’incrémente de 1 à chaque flanc montant de l’horloge provenant du presca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escaler permet de choisir correctement une base de temps (c’est un diviseur d’horlo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orloge qui contrôle le Prescaler provient de PCLK (horloge des périphériq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orloge PCLK est dérivée de l’oscillateur externe 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os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CLK = os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cl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 4 par défa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5"/>
          <p:cNvSpPr/>
          <p:nvPr/>
        </p:nvSpPr>
        <p:spPr>
          <a:xfrm>
            <a:off x="6902280" y="3200400"/>
            <a:ext cx="2133720" cy="838080"/>
          </a:xfrm>
          <a:prstGeom prst="ellipse">
            <a:avLst/>
          </a:prstGeom>
          <a:noFill/>
          <a:ln cap="sq" w="127080">
            <a:solidFill>
              <a:srgbClr val="03c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6"/>
          <p:cNvSpPr/>
          <p:nvPr/>
        </p:nvSpPr>
        <p:spPr>
          <a:xfrm>
            <a:off x="6919920" y="5264280"/>
            <a:ext cx="1828800" cy="685800"/>
          </a:xfrm>
          <a:prstGeom prst="ellipse">
            <a:avLst/>
          </a:prstGeom>
          <a:noFill/>
          <a:ln cap="sq"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2057400" y="6492960"/>
            <a:ext cx="373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imes New Roman"/>
                <a:ea typeface="Lucida Sans Unicode"/>
              </a:rPr>
              <a:t>F. Vannel, A. Upegui, V. Pillo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9:42:29Z</dcterms:created>
  <dc:creator>lucad</dc:creator>
  <dc:description/>
  <cp:keywords/>
  <dc:language>en-US</dc:language>
  <cp:lastModifiedBy>Vannel Fabien</cp:lastModifiedBy>
  <cp:lastPrinted>2014-11-20T13:00:01Z</cp:lastPrinted>
  <dcterms:modified xsi:type="dcterms:W3CDTF">2020-04-06T10:19:23Z</dcterms:modified>
  <cp:revision>93</cp:revision>
  <dc:subject/>
  <dc:title>Diapositive 1</dc:title>
</cp:coreProperties>
</file>